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ECD1-1316-4DDD-8C71-5A671B8CBD4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559D-93F8-47DD-8656-D32CAEEA4AE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7687-4C33-408E-A2C8-870165F7259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0896-5FCD-42BB-BA4A-575B06F53D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87AA-DB9D-4566-BE7B-3D13B69AFE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2F7F-EE4A-4705-8EB9-BB861E05F9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A2D1-1CF7-4737-9A6D-B223AEF9F7E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A7D1-F7FB-4E79-9C5B-A9DF84154B1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E521-773B-4AE6-B208-B0D0529C282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9FF5-B251-4731-A474-685BD6E3971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4EDA-A2B3-4059-976F-9DA86CC7F2B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B77B-184B-4DD1-B686-5F1BA9AD1B6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03B3-B430-4B51-A821-1B1D8657055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458A-DF7E-41A1-9675-8FF58E4FD199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8508-40E7-41DB-813A-E8B32C1D50C4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189080"/>
            <a:ext cx="7777080" cy="20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kontroli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lecenia pokontrolne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obre przykłady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Ochrona danych osobowy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ole tekstowe 2"/>
          <p:cNvSpPr/>
          <p:nvPr/>
        </p:nvSpPr>
        <p:spPr>
          <a:xfrm>
            <a:off x="40788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szkoleniach i przeprowadzonym doradztwie wskazane jest badanie satysfakcji uczestników w formie ank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jrzystość stron internetowych LGD, pozwalające sprawnie uzyskać informacje np. deklaracja członkostwa powinna być od razu widocz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5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Dobre praktyk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ole tekstowe 2"/>
          <p:cNvSpPr/>
          <p:nvPr/>
        </p:nvSpPr>
        <p:spPr>
          <a:xfrm>
            <a:off x="419040" y="1700280"/>
            <a:ext cx="822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jrzyste procedury, kryteria i rejestry interes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chowywanie dokumentów – zabezpieczone dokume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doczne oznakowanie biura i godzin pracy umieszczone na zewnątrz budyn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telne i przejrzyście prowadzone strony internetowe pozwalające na sprawne uzyskanie inform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Ochrona danych osobowy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2"/>
          <p:cNvSpPr/>
          <p:nvPr/>
        </p:nvSpPr>
        <p:spPr>
          <a:xfrm>
            <a:off x="419040" y="1700280"/>
            <a:ext cx="8221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ażda LGD powinna mieć Politykę bezpieczeństw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enie AB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jestr osób upoważnionych do przetwarzania danych osobow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ważnienia imienne dla pracowników oraz członków Rady do przetwarzania danych osobow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ważnienie do przetwarzania danych osobowych nie jest jednoznaczne z deklaracją bezstronności i poufności (członkowie Rady i pracownicy LGD winni posiadać upoważnienia do przetwarzania danych oraz podpisywać w/w deklaracj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e z ustawą zabezpieczenie danych osobowych, w  tym właściwe przechowywanie dokument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yskiwanie zgody wnioskodawców na przetwarzanie ich danych osob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76640" y="3716280"/>
            <a:ext cx="33753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Podsumowanie kontro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dzień 30.11.2017 r. przeprowadzono i zakończono kontrolę w 8 LGD, pozostałe 8 LGD będą skontrolowane do końca b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dmiot kontroli – Zobowiązania wynikające  z § 5 Umowy Ramowej tj. m.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ziałanie i utrzymanie biura (godziny pracy umieszczon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docznym miejscu przed biurem oraz na stronie internetowej), zabezpieczenie biura i dokumentów, Polityka bezpieczeństw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acownicy (kwalifikacje,  świadczenie prac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kolenia pracowników i członków rady decyzyjnej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trzymanie i aktualizacja strony internetowe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ezpłatne świadczenie doradztwa (rejestry, ankiety satysfakcj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Podsumowanie kontro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419040" y="1700280"/>
            <a:ext cx="8221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wszechnianie  informacji o zasadach przyznawania pomocy poprzez szkolenia, stronę internetową oraz kontakt telefoniczn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bezpośredni (ankiety, oceny szkole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bory (próba losowo wybranych wnioskó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procedur do nabor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regulaminu Ra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regulaminu Biu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atut, członkostwo w LGD – zapewnienie swobodnego dostępu do członkost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2"/>
          <p:cNvSpPr/>
          <p:nvPr/>
        </p:nvSpPr>
        <p:spPr>
          <a:xfrm>
            <a:off x="419040" y="270828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idłowe potwierdzanie za zgodność z oryginałem dokumentów oraz informowanie wnioskodawców o prawidłowym potwierdzaniu za zgodność przez wymienione w Rozporządzeniu podmi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1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twierdzanie za zgodnoś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2"/>
          <p:cNvSpPr/>
          <p:nvPr/>
        </p:nvSpPr>
        <p:spPr>
          <a:xfrm>
            <a:off x="40788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idłowe sporządzanie listy operacji wybranych, jeżeli operacje  są zgodne z LSR a nie mieszczą się w limicie winny się znaleźć na liście operacji wybranych z adnotacją „ nie mieści się w limici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5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Listy operac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43668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zewnictwo w tytułowaniu uchwał – nieprawidłowo zatytułowane np. Uchwala w sprawie wybrania operacji… ,natomiast w treści dokumentu zapis „operacja nie została wybrana do finansowania”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9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ytuły uchwa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414360" y="2708280"/>
            <a:ext cx="82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telne i przejrzyste sporządzanie rejestru interes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rócenie uwagi na spójność dokumentów – np. dane z protokołu niezgodne z danymi w uchwał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mułowanie dokumentów w ten sposób aby na ostatniej stronie nie znajdowały się tylko podpi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3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ole tekstowe 2"/>
          <p:cNvSpPr/>
          <p:nvPr/>
        </p:nvSpPr>
        <p:spPr>
          <a:xfrm>
            <a:off x="39528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lan szkoleń – założenia adekwatne do możliwości realiz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yteria wyboru – powinny być ustalane w sposób zrozumiały, realny i nie budujący wątpliwości z punktu widzenia wnioskodaw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ole tekstowe 2"/>
          <p:cNvSpPr/>
          <p:nvPr/>
        </p:nvSpPr>
        <p:spPr>
          <a:xfrm>
            <a:off x="41904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regulowania dotyczące uzyskania przez dwu lub więcej wnioskodawców identycznej liczby punktów – jeżeli znaczenie ma godzina przyjęcia wniosku – należy wpisać dokładną godzinę przyjęcia wniosku (zdarzały się sytuacje, iż w LGD przyjęto kilka wniosków o dokładnie tej samej godzini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1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3:34Z</dcterms:modified>
  <cp:revision>912</cp:revision>
  <dc:subject/>
  <dc:title>Slajd 1</dc:title>
</cp:coreProperties>
</file>