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79A9-52B9-4D29-974A-7EC07D0856D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3D8B-BD72-4DC3-B0F6-239A446AE2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C137-2D26-4595-8ED7-1E4DFA3722ED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4286-ED64-44AE-B3AB-658A64A150EB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035000"/>
            <a:ext cx="777708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lokalnych grupach działania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korzystanie budż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korzystanie budżetu  w poszczególnych LGD (średnia: 54,08%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  <p:sp>
        <p:nvSpPr>
          <p:cNvPr id="211" name="pole tekstowe 2"/>
          <p:cNvSpPr/>
          <p:nvPr/>
        </p:nvSpPr>
        <p:spPr>
          <a:xfrm>
            <a:off x="1116000" y="5861160"/>
            <a:ext cx="46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uwzględnieniem płatności, umów, naborów zakończonych, rozpoczętych, ogłoszonych i protes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19040" y="1700280"/>
            <a:ext cx="8221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okalne grupy działania z województwa łódzkiego złożyły w UMW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736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weryfikacji zostały przekazane (w tym z nieuzupełnionych nabor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24 wnios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częto weryfikację dl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35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pisano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0 um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rzucono lub pozostawiono bez rozpatrzeni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4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e grupy działania z województwa łódzkiego ogłosi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 996 687,8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751 943,1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zędu Marszałkowskiego Województwa Łódzkiego wpłynęły wnioski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4 081 778,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 (z wszystkich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 827 311,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04720" y="1628640"/>
          <a:ext cx="8064720" cy="4210200"/>
        </p:xfrm>
        <a:graphic>
          <a:graphicData uri="http://schemas.openxmlformats.org/drawingml/2006/table">
            <a:tbl>
              <a:tblPr/>
              <a:tblGrid>
                <a:gridCol w="576360"/>
                <a:gridCol w="6915240"/>
                <a:gridCol w="573120"/>
              </a:tblGrid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erwacja i naprawa pojazdów samochodowych, z wyłączeniem motocyk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gotowanie terenu pod budow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kty noclegowe turystyczne i miejsca krótkotrwałego zakwater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yzjerstwo i pozostałe zabiegi kosmety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je i inne stał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3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usługowa związana z zagospodarowaniem terenów ziel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9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izjoterapeuty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inżynierii i związane z nią doradztwo techn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chaniczna elementów metal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rozrywkowa i rekreacyj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usługowa, gdzie indziej niesklasyfiko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ieczywa; produkcja świeżych wyrobów ciastkarskich i cias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wodno-kanalizacyjnych, cieplnych, gazowych i klimatyzac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specjalistyczne roboty budowlane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architek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tali i nakładanie powłok na me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meb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wyrobów tarta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wyrobów z drewna; produkcja wyrobów z korka, słomy i materiałów używanych do wyplat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elektry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9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pozaszkolne formy edukacji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związana z produkcją filmów, nagrań wideo i programów telewiz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agencji reklam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otografi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3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jem i dzierżawa maszyn i urządzeń budowla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05040" y="620640"/>
            <a:ext cx="32353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7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 grant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 grantowych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ogłoszonych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4:30Z</dcterms:modified>
  <cp:revision>902</cp:revision>
  <dc:subject/>
  <dc:title>Slajd 1</dc:title>
</cp:coreProperties>
</file>