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FE98-05CE-4E4D-A3B9-9BB3C0B9E1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F04E-FB63-4A22-901E-273ECE436F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E6B8-DBE5-4A53-9161-025A3F9BAD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1FD3-92AB-4FBF-A616-07E216E3BE8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0023-AE88-4C58-B596-7D708EC196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1EF1-67E2-406B-99C5-A070C7B26F5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D33C-58FE-45EF-8E8C-F9D6254A17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9A37-3F35-463A-8F20-98385F611B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DD79-8C12-4148-B1BB-9A7B2DCB95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B0CC-D58B-435E-BB7C-438710CFAAD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9000"/>
            <a:ext cx="7775280" cy="44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Działan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19 „Wsparcie dla rozwoju lokalnego w ramach inicjatywy LEADER  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Poddziałanie: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9.3 „Przygotowanie i realizacja działań w zakresie współpracy z lokalną grupą działania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900000" y="4941720"/>
            <a:ext cx="38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945520" y="6568920"/>
            <a:ext cx="60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2z) oraz instrukcję do karty weryfikacji WoP (2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3888000" cy="431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103640" cy="7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. SUMA Z WYKAZU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kcje 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w tej sekcji powinny być zgodne z sumą  powielonych sekcji V.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Kwota wydatków całkowitych (w zł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 kwota powinna być równa kwocie wydatków całkowitych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1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gółem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kwota powinna być równa kwocie wydatków kwalifikowalnych ogółem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2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W tym VAT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kwota powinna być równa kwocie wydatków kwalifikowalnych, w tym VAT wskazanych w 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A. WYKAZ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partnerów ubiegających się o płatność w danym etapie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Nr LG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3 - Numer konta księgowego lub kodu rachunkowego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konta, na którym dokonano ewidencji zdarzenia lub numer kodu rachunkowego stanowiące potwierdzenie prowadzenia przez LGD oddzielnego systemu rachunkowości albo stosowanie oddzielnego kodu rachunk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ADY EWIDENCJI ZDARZEŃ GOSPODARCZ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733320" y="1916280"/>
            <a:ext cx="7705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GD ma obowiązek ustalenia i opisania zasad dotyczących ewidencji zdarzeń gospodarczych dokumentujących realizację operacji w ramach przyjętej polityki rachunkowo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realizujące operacje w ramach PROW na lata 2014-2020 są zobowiązane do prowadzenia oddzielnego systemu rachunkowości albo korzystania z odpowiedniego kodu rachunkowego dla wszystkich transakcji związanych z realizacją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owiązek prowadzenia oddzielnego systemu rachunkowości lub korzystania z odpowiedniego kodu rachunkowego, w ramach prowadzonych ksiąg rachunkowych dla wszystkich transakcji związanych z realizacją operacji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tyczy szczególnie płatności realizowanych z wyodrębnionego rachunku bankowego LGD przeznaczonego wyłącznie do obsługi zaliczki/wyprzedzającego finans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owiązek w tym zakresie powstaje najpóźniej z dniem podpisania umowy o przyznaniu pomocy, a w przypadku kosztów ogólnych – jeżeli poniesione zostały od dnia 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733320" y="1916280"/>
            <a:ext cx="7705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. ZESTAWIENIE RZECZOWO-FINANSOWE Z REALIZACJI OPERACJI DLA ETAP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wypełniania sek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nagłówku sekcji należy wybrać, przy pomocy listy rozwijalnej, numer etapu, w ramach którego składany jest wnios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ujęte w sekcji powinny być zgodne z danymi zawartymi w sekcji V.A wniosku oraz zgodnie z danymi w 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 – finansowym operacj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m załącznikiem nr 1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tabeli należy przenieść wszystkie pozycje ujęte w „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-finansowym z umowy”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jednak wypełnia się tylko te, które dotyczą danego etapu realizacji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ycje, które nie dotyczą danego etapu operacji należy pozostawić niewypełn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733320" y="1916280"/>
            <a:ext cx="770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. WARTOŚĆ WSKAŹNIKÓW, KTÓRE ZOSTAŁY OSIĄGNIĘTE W WYNIKU REALIZACJI OPERACJ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7.1 Wskaźniki obowiązkow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dotyczące realizacji wskaźników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sprawdzan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etapie wniosku o płatność końcow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I. ZAŁĄCZNI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wniosku należy dołączyć załączniki zgodnie z wykaz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rodzaju załącznika, do wniosku należy załączyć oryginał lub kopi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LGD wraz z wnioskiem przedkłada kopie faktu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 faktur  LGD powinna opatrzyć adnotacją „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Przedstawiono do refundacji w ramach PROW na lata 2014-20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stępnie są skserować i potwierdzić za zgodność z oryginał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y faktur, opatrzone powyższą adnotacją pozostają w LGD i mogą podlegać kontroli na miejscu/kontroli na zlecenie/wizyty na miejscu podczas oceny wniosku o płatność albo kontroli w zakresie wypełnienia zobowiązań umownych po wypłac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733320" y="1916280"/>
            <a:ext cx="770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wiązku ze zmianą przepisów prawa powszechnie obowiązującego, załączniki wymienione w Sekcji VIII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 części A  pkt 5 – 5g dotyczą umów zawartych przed dniem 18 stycz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eneficjent, który zawarł umowę po dniu 18 stycznia 2017 r. zobowiązany jest wpisać w Sekcji VIII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, część B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ne załącznik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– czyli wymagane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łączniki do protokołu / protokołów z postępowania o udzielenie zamówienia określone w Zasadach konkurencyjności wydatków w ramach PROW 2014-202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2"/>
          <p:cNvSpPr/>
          <p:nvPr/>
        </p:nvSpPr>
        <p:spPr>
          <a:xfrm>
            <a:off x="733320" y="1916280"/>
            <a:ext cx="7705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Uwaga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niesienie przez LGD kosztów kwalifikowalnych operacji, w tym dokonanie płatności za dostawy, usługi lub roboty budowlane, może nastąpić nie wcześniej, niż 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od dnia zawarcia umowy i nie później niż do terminu złożenia wniosku o płatn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 z zastrzeżeniem zachowania terminów o których mowa w § 9 ust. 1 pkt 4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moc jest przyznawana w formie refundacji kosztów kwalifikowalnych, do których zalicza się kosz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przygotowaniu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sprzętu lub pomiesz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realizacji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ogól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obót budowlanych lub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lub rozwoju oprogramowania komputerowego oraz zakupu patentów, licencji lub wynagrodzeń za przeniesienie autorskich praw majątkowych lub znaków towar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lub dzierżawy maszyn, wyposażenia, sprzętu lub nieruchomośc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nowych maszyn, wyposażenia lub sprzętu, a w przypadku operacji w zakresie zachowania dziedzictwa lokalnego –również używanych maszyn lub wyposażenia, stanowiących ekspon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zeczy innych niż wymienione powyżej, w tym materiał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nagrodzenia i innych świadczeń, o których mowa w ustawie – Kodeks Pracy, związanych z pracą osób koordynujących realizację projektu współprac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także inne koszty ponoszone przez LGD uczestniczące w realizacji operacji na podstawie         odrębnych przepisów w związku z zatrudnieniem tych osób, które są uzasadnione zakresem operacji, niezbędne do osiągnięcia celu oraz racjo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733320" y="1916280"/>
            <a:ext cx="770580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pełnej wysokości, jeżeli został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nies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1 stycznia 2014 r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wyniku wyboru przez LGD wykonawców poszczególnych zadań ujętych w zestawieniu rzeczowo-finansowym operacji z zachowaniem konkurencyjnego trybu ich wyboru określonego w umow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formie rozliczenia pieniężnego, a w przypadku transakcji, której wartość, bez względu na liczbę wynikających z niej płatności, przekracza 1 tys. złotych – w formie rozliczenia bezgotówkoweg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zględnion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 oddzielnym systemie rachunkowości albo do ich identyfikacji wykorzystano odpowiedni kod rachunko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URENCYJ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468360" y="1773360"/>
            <a:ext cx="80517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lnictwa i Rozwoju Ws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dnia 13.01.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szczegółowych warunków i trybu konkurencyjnego wyboru wykonawców zadań ujętych w zestawieniu rzeczowo-finansowym operacji i warunków dokonywania zmniejszeń kwot pomocy oraz pomocy techni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ww.portalogloszen.arimr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niosek o płatność W-1_19.3– wersja 1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rukcja wypełniania wniosku o płatność IW_19.3 wersja 1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1"/>
          <p:cNvSpPr/>
          <p:nvPr/>
        </p:nvSpPr>
        <p:spPr>
          <a:xfrm>
            <a:off x="950760" y="3105000"/>
            <a:ext cx="70059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y dostępne są na stronie internetow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u pomocy – wersja 2z obowiązująca od 18.01.2017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2"/>
          <p:cNvSpPr/>
          <p:nvPr/>
        </p:nvSpPr>
        <p:spPr>
          <a:xfrm>
            <a:off x="841320" y="3745080"/>
            <a:ext cx="7381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www.lodzkie.pl/prow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kład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Formularze wniosków o płatność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68360" y="1773360"/>
            <a:ext cx="8051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ozpoczęcia realizacji zestawienia rzeczowo-finansowego operacji przed dniem zawarcia umowy, z wyłączeniem kosztów ogólnych, które mogą być ponoszone od dnia 1 stycznia 2014 r.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 pomniejsza się o wartość tych kosztó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ierdzenia finansowania kosztów kwalifikowalnych operacji z udziałem innych środków publicznych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, pomniejsza się o wartość tych kosz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które zostały sfinansowane z udziałem innych środków publiczny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działań informacyjnych i promocyjnych, zgodnie z przepisami Załącznika III do rozporządzenia nr 808/2014 opisanymi w Księdze wizualizacji znaku Programu Rozwoju Obszarów Wiejskich na lata 2014–2020, 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1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uwzględnienia w oddzielnym systemie rachunkowości, zdarzenia powodującego poniesienie kosztów kwalifikowalnych albo nie wykorzystano odpowiedniego kodu rachunkow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468360" y="1773360"/>
            <a:ext cx="8051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zobowiązania dotyczącego wyodrębnionej księgowości w odniesieni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płatności realizowanych z wyodrębnionego rachunku bankowego przeznaczonego wyłącznie do obsługi zaliczki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4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wyprzedzającego finansowania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6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niemożliwienia przeprowadzenia kontroli i wizyt związanych z przyznaną pomoc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realizacji operacji, po złożeniu wniosku o płatność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o płatność podlega odrzuceniu i w konsekwencji 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a w przypadku gdy część pomocy została wcześniej wypłacona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ównież zwrot dotychczas wypłaconych kwot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rzekazywania i nieudostępniania Zarządowi Województwa oraz innym uprawnionym podmiotom danych związanych z operacją, w terminie wynikającym z wezwania do przekazania tych danych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0,5%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odjęcia działań zapewniających utworzenie przynajmniej jednego miejsca pracy, dla którego w ramach wyboru operacji przyznane zostały punkty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ile punkty uzyskane podczas oceny projektu współpracy w ramach kryterium, decydow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zyskaniu minimum 60% punktów możliwych do uzyskania w ramach oceny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"/>
          <p:cNvSpPr/>
          <p:nvPr/>
        </p:nvSpPr>
        <p:spPr>
          <a:xfrm>
            <a:off x="3059280" y="3357720"/>
            <a:ext cx="5398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az 4" descr=""/>
          <p:cNvPicPr/>
          <p:nvPr/>
        </p:nvPicPr>
        <p:blipFill>
          <a:blip r:embed="rId1"/>
          <a:stretch/>
        </p:blipFill>
        <p:spPr>
          <a:xfrm>
            <a:off x="3492360" y="4718160"/>
            <a:ext cx="4751640" cy="51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841320" y="58428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2"/>
          <p:cNvSpPr/>
          <p:nvPr/>
        </p:nvSpPr>
        <p:spPr>
          <a:xfrm>
            <a:off x="468360" y="1969920"/>
            <a:ext cx="797076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niosek może być złożon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upoważnioną osobę, al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   przesyłką rejestrowaną nadaną w placówce pocztowej operatora wyznaczonego w rozumieniu    ustawy z dnia 23 listopada 2012 r. – Prawo pocztowe (Dz. U. poz. 15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wniosku uważa się za zachowany, jeśli data pieczęci UM – wpływu  nie jest późniejsza niż termin określony w umowie, jednak nie później niż po upływ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2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1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0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ealizacji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6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ołączonego z realizacją projektu współpra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składany jest przez LGD umocowaną do działania w imieniu LGD uczestniczących w realizacji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la każdego etapu realizacji operacji należy złożyć oddzielny wniosek (wniosek o płatność pośrednią / wniosek płatność końcową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niezłożenia wniosku w terminie, o którym mowa w § 7 ust. 1 umowy o przyznaniu  pomocy Zarząd Województwa dwukrotnie wzywa LGD do złożenia wniosku, o ile nie upłynęły terminy wskazane w ww. paragrafie umowy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złożenie przez LGD wniosku w terminie wynikającym z drugiego wezwania Zarządu Województwa, skutkować będzie wypowiedzeniem umo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969920"/>
            <a:ext cx="79707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wniosek zawiera braki, Zarząd Województwa wzywa LGD, w formie pisemnej do ich usunięcia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 terminie 21 dni od dnia doręczenia wezwani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pomimo wezwania, LGD nie usunęła braków, Zarząd Województwa ponownie wzywa LGD w formie pisemnej do ich usunięc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21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esłania usuniętych braków, złożonych wyjaśnień lub poprawnych dokumentów przesyłką rejestrowana nadaną w placówce operatora wyznaczon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 terminowości ich złożenia decyduje data stempla pocztowego, a w przypadku ich dostarczenia w innej formie, o terminowości ich złożenia decyduje data wpływu do U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3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733320" y="1916280"/>
            <a:ext cx="77058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weryfikacji wniosku mogą zostać przeprowadzone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izyty w miejscu lub kontrole na miejscu oraz kontrole w trybie art. 46 ust. 1 pkt 1 ustawy z dnia 20 lutego 2015 r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spieraniu rozwoju obszarów wiejskich z udziałem środków Europejskiego Funduszu Rolnego na rzecz Rozwoju Obszarów Wiejskich w ramach Programu Rozwoju Obszarów Wiejskich na lata 2014-2020 (Dz. U. poz. 349) w celu zweryfikowania zgodności informacji zawartych we wniosku i dołączonych do niego dokumentach ze stanem faktycznym lub uzyskania dodatkowych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włocznie po pozytywnym rozpatrzeniu wniosku dokonuje się wypłaty środków finansowych z tytułu pomocy, lecz nie później ni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3 miesięc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 jego złożenia. Do terminu tego nie wlicza się okresu przeznaczonego na usunięcie braków / złożenie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powinna udokumentować rzeczywiste osiągnięcie celu operacji wskazanego umowie oraz prawidłowe, zgodne z przeznaczeniem wykorzystanie inwestycji objętej wniosk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. CZĘŚĆ OGÓL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Cel złożenia formularza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wnio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ekta wnios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cofanie wniosku w czę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2. Wniosek dotyczy operacji polegającej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 rodzaj oper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ołączone z realizacj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733320" y="1916280"/>
            <a:ext cx="77058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3. Etap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I etap, b) II etap, c) III etap, d) IV etap, e) V et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4. Rodzaj płat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pośred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końc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. DANE IDENTYFIKACYJNE LGD UMOCOWANEJ DO DZIAŁANIA W IMIENIU LGD UCZESTNICZĄCYCH W REALIZACJI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j sekcji należy wpisać dane LGD, która jest umocowana do działania w imieniu pozostałych L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I. DANE Z UMOWY O PRZYZNANIU POMO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 DANE DOTYCZĄCE WNIOSKU O PŁATNOŚĆ DL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sekcję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2 – 7  powinny być zgodne z sumą  kwot podanych w sekcji IV.A wnios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. DANE PARTNERÓW (LGD) UBIEGAJĄCYH SIĘ O PŁATNOŚĆ W DANYM ETAPIE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LGD (partnerów) ubiegających się o płatność w danym etapie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Dane identyfikacyjne Partnera n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tarzyna Kudelska</cp:lastModifiedBy>
  <cp:lastPrinted>2013-10-21T07:28:16Z</cp:lastPrinted>
  <dcterms:modified xsi:type="dcterms:W3CDTF">2017-12-06T08:02:54Z</dcterms:modified>
  <cp:revision>1083</cp:revision>
  <dc:subject/>
  <dc:title>Slajd 1</dc:title>
</cp:coreProperties>
</file>