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8580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947880" y="744120"/>
            <a:ext cx="49622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2"/>
          </p:nvPr>
        </p:nvSpPr>
        <p:spPr>
          <a:xfrm>
            <a:off x="-36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3"/>
          </p:nvPr>
        </p:nvSpPr>
        <p:spPr>
          <a:xfrm>
            <a:off x="388440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8E997-363D-45F1-9862-B7900065735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ymbol zastępczy numeru slajdu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F5F2D-23A4-4FC4-A4B9-9B9ED06F669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5" descr="ramka_slajd z piktogramami"/>
          <p:cNvPicPr/>
          <p:nvPr/>
        </p:nvPicPr>
        <p:blipFill>
          <a:blip r:embed="rId2"/>
          <a:stretch/>
        </p:blipFill>
        <p:spPr>
          <a:xfrm>
            <a:off x="324000" y="200160"/>
            <a:ext cx="8594640" cy="634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" name="Picture 2" descr="C:\Users\Monika\Desktop\dane\Pisma i wizytówki\Prezentacje\Biuro Audytu Wewnętrznego\4białe.png"/>
          <p:cNvPicPr/>
          <p:nvPr/>
        </p:nvPicPr>
        <p:blipFill>
          <a:blip r:embed="rId2"/>
          <a:stretch/>
        </p:blipFill>
        <p:spPr>
          <a:xfrm>
            <a:off x="298440" y="237960"/>
            <a:ext cx="8594640" cy="630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8" descr="4"/>
          <p:cNvPicPr/>
          <p:nvPr/>
        </p:nvPicPr>
        <p:blipFill>
          <a:blip r:embed="rId2"/>
          <a:stretch/>
        </p:blipFill>
        <p:spPr>
          <a:xfrm>
            <a:off x="298440" y="216000"/>
            <a:ext cx="8594640" cy="63021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482760" y="5989680"/>
            <a:ext cx="5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4F30C-CCEB-4311-BB55-63114C2D5F1A}" type="slidenum">
              <a:rPr b="1" lang="pl-PL" sz="1200" spc="-1" strike="noStrike">
                <a:solidFill>
                  <a:srgbClr val="da1c5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9" descr="2"/>
          <p:cNvPicPr/>
          <p:nvPr/>
        </p:nvPicPr>
        <p:blipFill>
          <a:blip r:embed="rId3"/>
          <a:stretch/>
        </p:blipFill>
        <p:spPr>
          <a:xfrm>
            <a:off x="1065240" y="5911920"/>
            <a:ext cx="30240" cy="438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6"/>
          <p:cNvPicPr/>
          <p:nvPr/>
        </p:nvPicPr>
        <p:blipFill>
          <a:blip r:embed="rId4"/>
          <a:stretch/>
        </p:blipFill>
        <p:spPr>
          <a:xfrm>
            <a:off x="415800" y="1619280"/>
            <a:ext cx="8247240" cy="30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6"/>
          <p:cNvPicPr/>
          <p:nvPr/>
        </p:nvPicPr>
        <p:blipFill>
          <a:blip r:embed="rId5"/>
          <a:stretch/>
        </p:blipFill>
        <p:spPr>
          <a:xfrm>
            <a:off x="415800" y="5865840"/>
            <a:ext cx="8247240" cy="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8" descr="4"/>
          <p:cNvPicPr/>
          <p:nvPr/>
        </p:nvPicPr>
        <p:blipFill>
          <a:blip r:embed="rId2"/>
          <a:stretch/>
        </p:blipFill>
        <p:spPr>
          <a:xfrm>
            <a:off x="298440" y="216000"/>
            <a:ext cx="8594640" cy="630216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6"/>
          <p:cNvSpPr/>
          <p:nvPr/>
        </p:nvSpPr>
        <p:spPr>
          <a:xfrm>
            <a:off x="482760" y="5989680"/>
            <a:ext cx="5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9CDC0-8F04-495E-8573-C1D49CC4F48C}" type="slidenum">
              <a:rPr b="1" lang="pl-PL" sz="1200" spc="-1" strike="noStrike">
                <a:solidFill>
                  <a:srgbClr val="da1c5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9" descr="2"/>
          <p:cNvPicPr/>
          <p:nvPr/>
        </p:nvPicPr>
        <p:blipFill>
          <a:blip r:embed="rId3"/>
          <a:stretch/>
        </p:blipFill>
        <p:spPr>
          <a:xfrm>
            <a:off x="1065240" y="5911920"/>
            <a:ext cx="30240" cy="438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6"/>
          <p:cNvPicPr/>
          <p:nvPr/>
        </p:nvPicPr>
        <p:blipFill>
          <a:blip r:embed="rId4"/>
          <a:stretch/>
        </p:blipFill>
        <p:spPr>
          <a:xfrm>
            <a:off x="415800" y="1619280"/>
            <a:ext cx="8247240" cy="302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6"/>
          <p:cNvPicPr/>
          <p:nvPr/>
        </p:nvPicPr>
        <p:blipFill>
          <a:blip r:embed="rId5"/>
          <a:stretch/>
        </p:blipFill>
        <p:spPr>
          <a:xfrm>
            <a:off x="415800" y="5865840"/>
            <a:ext cx="8247240" cy="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55280" y="1035000"/>
            <a:ext cx="7777080" cy="240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Podsumowanie naborów wniosków</a:t>
            </a:r>
            <a:br>
              <a:rPr sz="2800"/>
            </a:b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w lokalnych grupach działania</a:t>
            </a:r>
            <a:br>
              <a:rPr sz="2800"/>
            </a:b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w ramach poddziałania 19.2</a:t>
            </a:r>
            <a:br>
              <a:rPr sz="2000"/>
            </a:br>
            <a:br>
              <a:rPr sz="20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Symbol zastępczy tytułu 8"/>
          <p:cNvSpPr/>
          <p:nvPr/>
        </p:nvSpPr>
        <p:spPr>
          <a:xfrm>
            <a:off x="468360" y="4724280"/>
            <a:ext cx="35989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Smardzewice, dnia 7-8 grudnia 2017 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ole tekstowe 1"/>
          <p:cNvSpPr/>
          <p:nvPr/>
        </p:nvSpPr>
        <p:spPr>
          <a:xfrm>
            <a:off x="2771640" y="6568920"/>
            <a:ext cx="184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ole tekstowe 4"/>
          <p:cNvSpPr/>
          <p:nvPr/>
        </p:nvSpPr>
        <p:spPr>
          <a:xfrm>
            <a:off x="4156200" y="4195800"/>
            <a:ext cx="437040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„</a:t>
            </a: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Europejski Fundusz Rolny na rzecz Rozwoju Obszarów Wiejskich: Europa inwestująca w obszary wiejskie”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Materiał opracowany przez Urząd Marszałkowski Województwa Łódzkieg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Instytucja Zarządzająca PROW na lata 2014-2020 – Minister Rolnictwa </a:t>
            </a:r>
            <a:br>
              <a:rPr sz="1000"/>
            </a:b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i Rozwoju Wsi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Projekt współfinansowany ze środków Unii Europejskiej w ramach Pomocy Technicznej Programu Rozwoju Obszarów Wiejskich na lata 2014-202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Obraz 2" descr=""/>
          <p:cNvPicPr/>
          <p:nvPr/>
        </p:nvPicPr>
        <p:blipFill>
          <a:blip r:embed="rId1"/>
          <a:stretch/>
        </p:blipFill>
        <p:spPr>
          <a:xfrm>
            <a:off x="4156200" y="3603600"/>
            <a:ext cx="449892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Kwota z naborów grantowych w LG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ole tekstowe 2"/>
          <p:cNvSpPr/>
          <p:nvPr/>
        </p:nvSpPr>
        <p:spPr>
          <a:xfrm>
            <a:off x="419040" y="1700280"/>
            <a:ext cx="82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wota z naborów grantowych ogłoszonych w poszczególnych LG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206" name="Wykres 1" descr=""/>
          <p:cNvPicPr/>
          <p:nvPr/>
        </p:nvPicPr>
        <p:blipFill>
          <a:blip r:embed="rId2"/>
          <a:stretch/>
        </p:blipFill>
        <p:spPr>
          <a:xfrm>
            <a:off x="488880" y="2049480"/>
            <a:ext cx="809460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Wykorzystanie budże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ole tekstowe 2"/>
          <p:cNvSpPr/>
          <p:nvPr/>
        </p:nvSpPr>
        <p:spPr>
          <a:xfrm>
            <a:off x="419040" y="1700280"/>
            <a:ext cx="82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ykorzystanie budżetu  w poszczególnych LGD (średnia: 54,08%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210" name="Wykres 1" descr=""/>
          <p:cNvPicPr/>
          <p:nvPr/>
        </p:nvPicPr>
        <p:blipFill>
          <a:blip r:embed="rId2"/>
          <a:stretch/>
        </p:blipFill>
        <p:spPr>
          <a:xfrm>
            <a:off x="488880" y="2049480"/>
            <a:ext cx="8094600" cy="3806640"/>
          </a:xfrm>
          <a:prstGeom prst="rect">
            <a:avLst/>
          </a:prstGeom>
          <a:ln w="0">
            <a:noFill/>
          </a:ln>
        </p:spPr>
      </p:pic>
      <p:sp>
        <p:nvSpPr>
          <p:cNvPr id="211" name="pole tekstowe 2"/>
          <p:cNvSpPr/>
          <p:nvPr/>
        </p:nvSpPr>
        <p:spPr>
          <a:xfrm>
            <a:off x="1116000" y="5861160"/>
            <a:ext cx="4641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 uwzględnieniem płatności, umów, naborów zakończonych, rozpoczętych, ogłoszonych i protestów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Wnioski 19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ole tekstowe 2"/>
          <p:cNvSpPr/>
          <p:nvPr/>
        </p:nvSpPr>
        <p:spPr>
          <a:xfrm>
            <a:off x="419040" y="1700280"/>
            <a:ext cx="82216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Lokalne grupy działania z województwa łódzkiego złożyły w UMW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736 wniosków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Do weryfikacji zostały przekazane (w tym z nieuzupełnionych naborów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524 wnioski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Rozpoczęto weryfikację dla około (zmiany dynamiczne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350 wniosków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odpisano około (zmiany dynamiczne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200 umów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Odrzucono lub pozostawiono bez rozpatrzenia około (zmiany dynamiczne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40 wniosków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Wnioski 19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ole tekstowe 2"/>
          <p:cNvSpPr/>
          <p:nvPr/>
        </p:nvSpPr>
        <p:spPr>
          <a:xfrm>
            <a:off x="419040" y="1700280"/>
            <a:ext cx="82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iczba wniosków złożonych i weryfikowalnych w podziale na zakres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218" name="Wykres 1" descr=""/>
          <p:cNvPicPr/>
          <p:nvPr/>
        </p:nvPicPr>
        <p:blipFill>
          <a:blip r:embed="rId2"/>
          <a:stretch/>
        </p:blipFill>
        <p:spPr>
          <a:xfrm>
            <a:off x="488880" y="2049480"/>
            <a:ext cx="809460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Wnioski 19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ole tekstowe 2"/>
          <p:cNvSpPr/>
          <p:nvPr/>
        </p:nvSpPr>
        <p:spPr>
          <a:xfrm>
            <a:off x="419040" y="1700280"/>
            <a:ext cx="82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wota z wniosków złożonych i weryfikowalnych w podziale na zakres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222" name="Wykres 1" descr=""/>
          <p:cNvPicPr/>
          <p:nvPr/>
        </p:nvPicPr>
        <p:blipFill>
          <a:blip r:embed="rId2"/>
          <a:stretch/>
        </p:blipFill>
        <p:spPr>
          <a:xfrm>
            <a:off x="488880" y="2049480"/>
            <a:ext cx="809460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Wnioski 19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ole tekstowe 2"/>
          <p:cNvSpPr/>
          <p:nvPr/>
        </p:nvSpPr>
        <p:spPr>
          <a:xfrm>
            <a:off x="419040" y="1700280"/>
            <a:ext cx="82216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Liczba wniosków złożonych i weryfikowalnych w podziale na rodzaj beneficjenta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226" name="Wykres 1" descr=""/>
          <p:cNvPicPr/>
          <p:nvPr/>
        </p:nvPicPr>
        <p:blipFill>
          <a:blip r:embed="rId2"/>
          <a:stretch/>
        </p:blipFill>
        <p:spPr>
          <a:xfrm>
            <a:off x="488880" y="2049480"/>
            <a:ext cx="809460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Wnioski 19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ole tekstowe 2"/>
          <p:cNvSpPr/>
          <p:nvPr/>
        </p:nvSpPr>
        <p:spPr>
          <a:xfrm>
            <a:off x="419040" y="1700280"/>
            <a:ext cx="82216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Kwota z wniosków złożonych i weryfikowalnych w podziale na rodzaj beneficjenta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230" name="Wykres 1" descr=""/>
          <p:cNvPicPr/>
          <p:nvPr/>
        </p:nvPicPr>
        <p:blipFill>
          <a:blip r:embed="rId2"/>
          <a:stretch/>
        </p:blipFill>
        <p:spPr>
          <a:xfrm>
            <a:off x="488880" y="2049480"/>
            <a:ext cx="809460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Wnioski 19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ole tekstowe 2"/>
          <p:cNvSpPr/>
          <p:nvPr/>
        </p:nvSpPr>
        <p:spPr>
          <a:xfrm>
            <a:off x="419040" y="1700280"/>
            <a:ext cx="82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iczba wniosków złożonych i weryfikowalnych w podziale na powi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234" name="Wykres 1" descr=""/>
          <p:cNvPicPr/>
          <p:nvPr/>
        </p:nvPicPr>
        <p:blipFill>
          <a:blip r:embed="rId2"/>
          <a:stretch/>
        </p:blipFill>
        <p:spPr>
          <a:xfrm>
            <a:off x="488880" y="2049480"/>
            <a:ext cx="809460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Wnioski 19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ole tekstowe 2"/>
          <p:cNvSpPr/>
          <p:nvPr/>
        </p:nvSpPr>
        <p:spPr>
          <a:xfrm>
            <a:off x="419040" y="1700280"/>
            <a:ext cx="82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wota z wniosków złożonych i weryfikowalnych w podziale na powi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238" name="Wykres 1" descr=""/>
          <p:cNvPicPr/>
          <p:nvPr/>
        </p:nvPicPr>
        <p:blipFill>
          <a:blip r:embed="rId2"/>
          <a:stretch/>
        </p:blipFill>
        <p:spPr>
          <a:xfrm>
            <a:off x="488880" y="2049480"/>
            <a:ext cx="809460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Wnioski 19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ole tekstowe 2"/>
          <p:cNvSpPr/>
          <p:nvPr/>
        </p:nvSpPr>
        <p:spPr>
          <a:xfrm>
            <a:off x="419040" y="1700280"/>
            <a:ext cx="82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iczba wniosków złożonych i weryfikowalnych w podziale na LG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242" name="Wykres 1" descr=""/>
          <p:cNvPicPr/>
          <p:nvPr/>
        </p:nvPicPr>
        <p:blipFill>
          <a:blip r:embed="rId2"/>
          <a:stretch/>
        </p:blipFill>
        <p:spPr>
          <a:xfrm>
            <a:off x="488880" y="2049480"/>
            <a:ext cx="809460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Ilość nabor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ole tekstowe 2"/>
          <p:cNvSpPr/>
          <p:nvPr/>
        </p:nvSpPr>
        <p:spPr>
          <a:xfrm>
            <a:off x="419040" y="1700280"/>
            <a:ext cx="82216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okalne grupy działania z województwa łódzkiego ogłosił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naborów na kwotę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63 996 687,86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łotych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ty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naborów grantowych na kwotę: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6 751 943,19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łoty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Urzędu Marszałkowskiego Województwa Łódzkiego wpłynęły wnioski z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74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naborów na kwotę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64 081 778,52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łotych (z wszystkich wnioskó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ty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naborów grantowych na kwotę: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2 827 311,00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łoty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Wnioski 19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ole tekstowe 2"/>
          <p:cNvSpPr/>
          <p:nvPr/>
        </p:nvSpPr>
        <p:spPr>
          <a:xfrm>
            <a:off x="419040" y="1700280"/>
            <a:ext cx="82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wota z wniosków złożonych i weryfikowalnych w podziale na LG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246" name="Wykres 1" descr=""/>
          <p:cNvPicPr/>
          <p:nvPr/>
        </p:nvPicPr>
        <p:blipFill>
          <a:blip r:embed="rId2"/>
          <a:stretch/>
        </p:blipFill>
        <p:spPr>
          <a:xfrm>
            <a:off x="488880" y="2049480"/>
            <a:ext cx="809460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Wnioski 19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9" name=""/>
          <p:cNvGraphicFramePr/>
          <p:nvPr/>
        </p:nvGraphicFramePr>
        <p:xfrm>
          <a:off x="504720" y="1628640"/>
          <a:ext cx="8064720" cy="4210200"/>
        </p:xfrm>
        <a:graphic>
          <a:graphicData uri="http://schemas.openxmlformats.org/drawingml/2006/table">
            <a:tbl>
              <a:tblPr/>
              <a:tblGrid>
                <a:gridCol w="576360"/>
                <a:gridCol w="6915240"/>
                <a:gridCol w="573120"/>
              </a:tblGrid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.20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serwacja i naprawa pojazdów samochodowych, z wyłączeniem motocykl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12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zygotowanie terenu pod budowę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.20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iekty noclegowe turystyczne i miejsca krótkotrwałego zakwaterowan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.02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yzjerstwo i pozostałe zabiegi kosmetycz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.10.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tauracje i inne stałe placówki gastronomicz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.30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ziałalność usługowa związana z zagospodarowaniem terenów zielen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.90.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ziałalność fizjoterapeutycz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.12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ziałalność w zakresie inżynierii i związane z nią doradztwo technicz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.62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róbka mechaniczna elementów metalowy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.29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została działalność rozrywkowa i rekreacyj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.09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została działalność usługowa, gdzie indziej niesklasyfikowa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71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kcja pieczywa; produkcja świeżych wyrobów ciastkarskich i ciaste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22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ykonywanie instalacji wodno-kanalizacyjnych, cieplnych, gazowych i klimatyzacyjny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99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zostałe specjalistyczne roboty budowlane, gdzie indziej niesklasyfikowa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.11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ziałalność w zakresie architektu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.61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róbka metali i nakładanie powłok na met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.09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kcja pozostałych mebl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10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kcja wyrobów tartaczny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29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kcja pozostałych wyrobów z drewna; produkcja wyrobów z korka, słomy i materiałów używanych do wyplatan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21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ykonywanie instalacji elektryczny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.59.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zostałe pozaszkolne formy edukacji, gdzie indziej niesklasyfikowa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.10.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chome placówki gastronomicz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.11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ziałalność związana z produkcją filmów, nagrań wideo i programów telewizyjny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.11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ziałalność agencji reklamowy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.20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ziałalność fotograficz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.32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ynajem i dzierżawa maszyn i urządzeń budowlany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405040" y="620640"/>
            <a:ext cx="323532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ff"/>
                </a:solidFill>
                <a:latin typeface="Arial"/>
              </a:rPr>
              <a:t>Dziękujemy za uwagę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ole tekstowe 1"/>
          <p:cNvSpPr/>
          <p:nvPr/>
        </p:nvSpPr>
        <p:spPr>
          <a:xfrm>
            <a:off x="2771640" y="6568920"/>
            <a:ext cx="184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Zakresy nabor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ole tekstowe 2"/>
          <p:cNvSpPr/>
          <p:nvPr/>
        </p:nvSpPr>
        <p:spPr>
          <a:xfrm>
            <a:off x="419040" y="1700280"/>
            <a:ext cx="82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akresy naborów, dla których wnioski zostały złożone w UWM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178" name="Wykres 1" descr=""/>
          <p:cNvPicPr/>
          <p:nvPr/>
        </p:nvPicPr>
        <p:blipFill>
          <a:blip r:embed="rId2"/>
          <a:stretch/>
        </p:blipFill>
        <p:spPr>
          <a:xfrm>
            <a:off x="488880" y="2049480"/>
            <a:ext cx="809460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Zakresy naborów grantowy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ole tekstowe 2"/>
          <p:cNvSpPr/>
          <p:nvPr/>
        </p:nvSpPr>
        <p:spPr>
          <a:xfrm>
            <a:off x="419040" y="1700280"/>
            <a:ext cx="82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akresy naborów grantowych, dla których wnioski zostały złożone w UWM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182" name="Wykres 1" descr=""/>
          <p:cNvPicPr/>
          <p:nvPr/>
        </p:nvPicPr>
        <p:blipFill>
          <a:blip r:embed="rId2"/>
          <a:stretch/>
        </p:blipFill>
        <p:spPr>
          <a:xfrm>
            <a:off x="488880" y="2049480"/>
            <a:ext cx="809460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Ilość naborów w LG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ole tekstowe 2"/>
          <p:cNvSpPr/>
          <p:nvPr/>
        </p:nvSpPr>
        <p:spPr>
          <a:xfrm>
            <a:off x="419040" y="1700280"/>
            <a:ext cx="82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lość naborów ogłoszonych w poszczególnych LG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186" name="Wykres 1" descr=""/>
          <p:cNvPicPr/>
          <p:nvPr/>
        </p:nvPicPr>
        <p:blipFill>
          <a:blip r:embed="rId2"/>
          <a:stretch/>
        </p:blipFill>
        <p:spPr>
          <a:xfrm>
            <a:off x="488880" y="2049480"/>
            <a:ext cx="809460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Ilość naborów zwykłych w LG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ole tekstowe 2"/>
          <p:cNvSpPr/>
          <p:nvPr/>
        </p:nvSpPr>
        <p:spPr>
          <a:xfrm>
            <a:off x="419040" y="1700280"/>
            <a:ext cx="82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lość naborów zwykłych ogłoszonych w poszczególnych LG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190" name="Wykres 1" descr=""/>
          <p:cNvPicPr/>
          <p:nvPr/>
        </p:nvPicPr>
        <p:blipFill>
          <a:blip r:embed="rId2"/>
          <a:stretch/>
        </p:blipFill>
        <p:spPr>
          <a:xfrm>
            <a:off x="488880" y="2049480"/>
            <a:ext cx="809460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Ilość naborów grantowych w LG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ole tekstowe 2"/>
          <p:cNvSpPr/>
          <p:nvPr/>
        </p:nvSpPr>
        <p:spPr>
          <a:xfrm>
            <a:off x="419040" y="1700280"/>
            <a:ext cx="82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lość naborów grantowych ogłoszonych w poszczególnych LG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194" name="Wykres 1" descr=""/>
          <p:cNvPicPr/>
          <p:nvPr/>
        </p:nvPicPr>
        <p:blipFill>
          <a:blip r:embed="rId2"/>
          <a:stretch/>
        </p:blipFill>
        <p:spPr>
          <a:xfrm>
            <a:off x="488880" y="2049480"/>
            <a:ext cx="809460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Kwota z ogłoszonych naborów w LG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ole tekstowe 2"/>
          <p:cNvSpPr/>
          <p:nvPr/>
        </p:nvSpPr>
        <p:spPr>
          <a:xfrm>
            <a:off x="419040" y="1700280"/>
            <a:ext cx="82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wota z naborów ogłoszonych w poszczególnych LG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198" name="Wykres 1" descr=""/>
          <p:cNvPicPr/>
          <p:nvPr/>
        </p:nvPicPr>
        <p:blipFill>
          <a:blip r:embed="rId2"/>
          <a:stretch/>
        </p:blipFill>
        <p:spPr>
          <a:xfrm>
            <a:off x="488880" y="2049480"/>
            <a:ext cx="809460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Kwota z naborów zwykłych w LG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ole tekstowe 2"/>
          <p:cNvSpPr/>
          <p:nvPr/>
        </p:nvSpPr>
        <p:spPr>
          <a:xfrm>
            <a:off x="419040" y="1700280"/>
            <a:ext cx="82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wota z naborów zwykłych ogłoszonych w poszczególnych LG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202" name="Wykres 1" descr=""/>
          <p:cNvPicPr/>
          <p:nvPr/>
        </p:nvPicPr>
        <p:blipFill>
          <a:blip r:embed="rId2"/>
          <a:stretch/>
        </p:blipFill>
        <p:spPr>
          <a:xfrm>
            <a:off x="488880" y="2049480"/>
            <a:ext cx="809460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19:48:29Z</dcterms:created>
  <dc:creator>Monika Kornacka</dc:creator>
  <dc:description/>
  <dc:language>en-US</dc:language>
  <cp:lastModifiedBy>Michał Kosmowski</cp:lastModifiedBy>
  <cp:lastPrinted>2016-08-26T06:50:38Z</cp:lastPrinted>
  <dcterms:modified xsi:type="dcterms:W3CDTF">2017-12-05T06:14:30Z</dcterms:modified>
  <cp:revision>902</cp:revision>
  <dc:subject/>
  <dc:title>Slajd 1</dc:title>
</cp:coreProperties>
</file>