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9650-DC91-4B67-9066-EF67C2CC1C1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7EDD-69E0-48BA-B240-4183FC8074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1162-3CE5-4C0F-8756-F0C436169C8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3975-EC00-4957-8F3C-D070983AF9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7702-8D09-4549-967F-FC078B67B8F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58D1-3019-459C-A017-6004E9C3F42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7DDD-684F-4E9A-B3E0-2170FA2578C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1AD6-61BA-42F7-A4E9-DA4295E45E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F45E-0B24-487B-964A-6338C09083D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7207-6FE3-4C6D-8F20-14E4882031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8B59-BB70-49EF-84AD-0558E6BD13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9379-23A6-401E-979F-73C156958A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DDCB-3225-402D-A393-AE8A78B508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9EDB-209E-4A5C-8C6F-13CB4A892AD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730F-6AAC-45FF-8C89-DFE3824C7347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189080"/>
            <a:ext cx="777708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kontroli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lecenia pokontrolne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obre przykłady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chrona danych osobowy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078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szkoleniach i przeprowadzonym doradztwie wskazane jest badanie satysfakcji uczestników w formie ank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ość stron internetowych LGD, pozwalające sprawnie uzyskać informacje np. deklaracja członkostwa powinna być od razu widocz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Dobre praktyk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419040" y="170028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e procedury, kryteria i rejestry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chowywanie dokumentów – zabezpieczone dokume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doczne oznakowanie biura i godzin pracy umieszczone na zewnątrz budy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ście prowadzone strony internetowe pozwalające na sprawne uzyskanie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Ochrona danych osobow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419040" y="1700280"/>
            <a:ext cx="8221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a LGD powinna mieć Politykę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enie AB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jestr osób upoważnionych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a imienne dla pracowników oraz członków Rady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e do przetwarzania danych osobowych nie jest jednoznaczne z deklaracją bezstronności i poufności (członkowie Rady i pracownicy LGD winni posiadać upoważnienia do przetwarzania danych oraz podpisywać w/w deklaracj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e z ustawą zabezpieczenie danych osobowych, w  tym właściwe przechowywanie dokument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yskiwanie zgody wnioskodawców na przetwarzanie ich danych osob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76640" y="3716280"/>
            <a:ext cx="33753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dzień 30.11.2017 r. przeprowadzono i zakończono kontrolę w 8 LGD, pozostałe 8 LGD będą skontrolowane do końca 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dmiot kontroli – Zobowiązania wynikające  z § 5 Umowy Ramowej tj. m.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ałanie i utrzymanie biura (godziny pracy umieszczo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docznym miejscu przed biurem oraz na stronie internetowej), zabezpieczenie biura i dokumentów, Polityka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ownicy (kwalifikacje,  świadczenie prac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kolenia pracowników i członków rady decyzyjnej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trzymanie i aktualizacja strony internetow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ezpłatne świadczenie doradztwa (rejestry, ankiety satysfakcj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wszechnianie  informacji o zasadach przyznawania pomocy poprzez szkolenia, stronę internetową oraz kontakt telefonicz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bezpośredni (ankiety, oceny szkole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bory (próba losowo wybranych wnios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procedur do nabor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R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Biu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tut, członkostwo w LGD – zapewnienie swobodnego dostępu do członko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190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potwierdzanie za zgodność z oryginałem dokumentów oraz informowanie wnioskodawców o prawidłowym potwierdzaniu za zgodność przez wymienione w Rozporządzeniu podmi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twierdzanie za zgodnoś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2"/>
          <p:cNvSpPr/>
          <p:nvPr/>
        </p:nvSpPr>
        <p:spPr>
          <a:xfrm>
            <a:off x="4078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sporządzanie listy operacji wybranych, jeżeli operacje  są zgodne z LSR a nie mieszczą się w limicie winny się znaleźć na liście operacji wybranych z adnotacją „ nie mieści się w limic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Listy operac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366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zewnictwo w tytułowaniu uchwał – nieprawidłowo zatytułowane np. Uchwala w sprawie wybrania operacji… ,natomiast w treści dokumentu zapis „operacja nie została wybrana do finansowania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ytuły uchwa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41436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ste sporządzanie rejestru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rócenie uwagi na spójność dokumentów – np. dane z protokołu niezgodne z danymi w uchwał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mułowanie dokumentów w ten sposób aby na ostatniej stronie nie znajdowały się tylko pod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3952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 szkoleń – założenia adekwatne do możliwości real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yteria wyboru – powinny być ustalane w sposób zrozumiały, realny i nie budujący wątpliwości z punktu widzenia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41904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egulowania dotyczące uzyskania przez dwu lub więcej wnioskodawców identycznej liczby punktów – jeżeli znaczenie ma godzina przyjęcia wniosku – należy wpisać dokładną godzinę przyjęcia wniosku (zdarzały się sytuacje, iż w LGD przyjęto kilka wniosków o dokładnie tej samej godzin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34Z</dcterms:modified>
  <cp:revision>912</cp:revision>
  <dc:subject/>
  <dc:title>Slajd 1</dc:title>
</cp:coreProperties>
</file>