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947880" y="744120"/>
            <a:ext cx="4962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2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3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C436-C49A-4F2F-A03D-196DDD428A2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884A-CF95-441C-BA47-623616B32A7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7FBD-8DA9-4CC3-999E-D1EBFE4EE5D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B9E6-89CF-44DC-AABB-615FF3678C4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3456-E04E-4AD1-96B5-F7987733BB8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1B20-C1B6-4625-B88A-28C15531E0C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4372-F62A-4DBC-8226-96DC2F31692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91A6-16E8-4C40-8B28-70D0C58C767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D110-831F-4E15-82DD-091B3219A35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156A-4D3B-4222-835C-04A8D981CB4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1876-957D-49A9-B53A-9D3E815CE75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6149-5124-4F47-B85D-BACAEF8FE18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3EA4-3792-4B02-911F-F1D897FD131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F032-4F7C-4BE3-BCA7-953B0BF5A2AE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5F0B-31FC-4A1D-98D8-F30B931DAF67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280" y="1189080"/>
            <a:ext cx="7777080" cy="20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Podsumowanie kontroli.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Zalecenia pokontrolne.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Dobre przykłady.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Ochrona danych osobowych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ymbol zastępczy tytułu 8"/>
          <p:cNvSpPr/>
          <p:nvPr/>
        </p:nvSpPr>
        <p:spPr>
          <a:xfrm>
            <a:off x="468360" y="4724280"/>
            <a:ext cx="3598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Smardzewice, dnia 7-8 grudnia 2017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ole tekstowe 4"/>
          <p:cNvSpPr/>
          <p:nvPr/>
        </p:nvSpPr>
        <p:spPr>
          <a:xfrm>
            <a:off x="4156200" y="4195800"/>
            <a:ext cx="4370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Projekt współfinansowany ze środków Unii Europejskiej w ramach Pomocy Technicznej Programu Rozwoju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Obraz 2" descr=""/>
          <p:cNvPicPr/>
          <p:nvPr/>
        </p:nvPicPr>
        <p:blipFill>
          <a:blip r:embed="rId1"/>
          <a:stretch/>
        </p:blipFill>
        <p:spPr>
          <a:xfrm>
            <a:off x="4156200" y="3603600"/>
            <a:ext cx="449892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Zalecenia pokontrol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ole tekstowe 2"/>
          <p:cNvSpPr/>
          <p:nvPr/>
        </p:nvSpPr>
        <p:spPr>
          <a:xfrm>
            <a:off x="407880" y="2708280"/>
            <a:ext cx="822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 szkoleniach i przeprowadzonym doradztwie wskazane jest badanie satysfakcji uczestników w formie anki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ejrzystość stron internetowych LGD, pozwalające sprawnie uzyskać informacje np. deklaracja członkostwa powinna być od razu widocz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05" name="pole tekstowe 1"/>
          <p:cNvSpPr/>
          <p:nvPr/>
        </p:nvSpPr>
        <p:spPr>
          <a:xfrm>
            <a:off x="431640" y="165564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ozostał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Dobre praktyk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ole tekstowe 2"/>
          <p:cNvSpPr/>
          <p:nvPr/>
        </p:nvSpPr>
        <p:spPr>
          <a:xfrm>
            <a:off x="419040" y="1700280"/>
            <a:ext cx="8221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ejrzyste procedury, kryteria i rejestry interesó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echowywanie dokumentów – zabezpieczone dokumen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idoczne oznakowanie biura i godzin pracy umieszczone na zewnątrz budyn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zytelne i przejrzyście prowadzone strony internetowe pozwalające na sprawne uzyskanie informacj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Ochrona danych osobowyc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ole tekstowe 2"/>
          <p:cNvSpPr/>
          <p:nvPr/>
        </p:nvSpPr>
        <p:spPr>
          <a:xfrm>
            <a:off x="419040" y="1700280"/>
            <a:ext cx="82216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ażda LGD powinna mieć Politykę bezpieczeństw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stalenie AB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ejestr osób upoważnionych do przetwarzania danych osobowyc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poważnienia imienne dla pracowników oraz członków Rady do przetwarzania danych osobowyc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poważnienie do przetwarzania danych osobowych nie jest jednoznaczne z deklaracją bezstronności i poufności (członkowie Rady i pracownicy LGD winni posiadać upoważnienia do przetwarzania danych oraz podpisywać w/w deklaracj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godne z ustawą zabezpieczenie danych osobowych, w  tym właściwe przechowywanie dokumentó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zyskiwanie zgody wnioskodawców na przetwarzanie ich danych osobow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76640" y="3716280"/>
            <a:ext cx="337536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Arial"/>
              </a:rPr>
              <a:t>Dziękujemy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Podsumowanie kontrol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ole tekstowe 2"/>
          <p:cNvSpPr/>
          <p:nvPr/>
        </p:nvSpPr>
        <p:spPr>
          <a:xfrm>
            <a:off x="419040" y="1700280"/>
            <a:ext cx="82216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 dzień 30.11.2017 r. przeprowadzono i zakończono kontrolę w 8 LGD, pozostałe 8 LGD będą skontrolowane do końca b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zedmiot kontroli – Zobowiązania wynikające  z § 5 Umowy Ramowej tj. m.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ziałanie i utrzymanie biura (godziny pracy umieszczon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widocznym miejscu przed biurem oraz na stronie internetowej), zabezpieczenie biura i dokumentów, Polityka bezpieczeństw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acownicy (kwalifikacje,  świadczenie prac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zkolenia pracowników i członków rady decyzyjnej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trzymanie i aktualizacja strony internetowej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bezpłatne świadczenie doradztwa (rejestry, ankiety satysfakcj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Podsumowanie kontrol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ole tekstowe 2"/>
          <p:cNvSpPr/>
          <p:nvPr/>
        </p:nvSpPr>
        <p:spPr>
          <a:xfrm>
            <a:off x="419040" y="1700280"/>
            <a:ext cx="82216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ozpowszechnianie  informacji o zasadach przyznawania pomocy poprzez szkolenia, stronę internetową oraz kontakt telefoniczn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 bezpośredni (ankiety, oceny szkoleń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bory (próba losowo wybranych wnioskó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tosowanie procedur do naboró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tosowanie regulaminu Rad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tosowanie regulaminu Biur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tatut, członkostwo w LGD – zapewnienie swobodnego dostępu do członkostw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Zalecenia pokontrol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ole tekstowe 2"/>
          <p:cNvSpPr/>
          <p:nvPr/>
        </p:nvSpPr>
        <p:spPr>
          <a:xfrm>
            <a:off x="419040" y="2708280"/>
            <a:ext cx="822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awidłowe potwierdzanie za zgodność z oryginałem dokumentów oraz informowanie wnioskodawców o prawidłowym potwierdzaniu za zgodność przez wymienione w Rozporządzeniu podmio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81" name="pole tekstowe 1"/>
          <p:cNvSpPr/>
          <p:nvPr/>
        </p:nvSpPr>
        <p:spPr>
          <a:xfrm>
            <a:off x="431640" y="165564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otwierdzanie za zgodnoś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Zalecenia pokontrol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ole tekstowe 2"/>
          <p:cNvSpPr/>
          <p:nvPr/>
        </p:nvSpPr>
        <p:spPr>
          <a:xfrm>
            <a:off x="407880" y="2708280"/>
            <a:ext cx="822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awidłowe sporządzanie listy operacji wybranych, jeżeli operacje  są zgodne z LSR a nie mieszczą się w limicie winny się znaleźć na liście operacji wybranych z adnotacją „ nie mieści się w limici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85" name="pole tekstowe 1"/>
          <p:cNvSpPr/>
          <p:nvPr/>
        </p:nvSpPr>
        <p:spPr>
          <a:xfrm>
            <a:off x="431640" y="165564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Listy operac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Zalecenia pokontrol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ole tekstowe 2"/>
          <p:cNvSpPr/>
          <p:nvPr/>
        </p:nvSpPr>
        <p:spPr>
          <a:xfrm>
            <a:off x="436680" y="2708280"/>
            <a:ext cx="822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zewnictwo w tytułowaniu uchwał – nieprawidłowo zatytułowane np. Uchwala w sprawie wybrania operacji… ,natomiast w treści dokumentu zapis „operacja nie została wybrana do finansowania”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89" name="pole tekstowe 1"/>
          <p:cNvSpPr/>
          <p:nvPr/>
        </p:nvSpPr>
        <p:spPr>
          <a:xfrm>
            <a:off x="431640" y="165564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ytuły uchwa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Zalecenia pokontrol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ole tekstowe 2"/>
          <p:cNvSpPr/>
          <p:nvPr/>
        </p:nvSpPr>
        <p:spPr>
          <a:xfrm>
            <a:off x="414360" y="2708280"/>
            <a:ext cx="8221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zytelne i przejrzyste sporządzanie rejestru interesó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wrócenie uwagi na spójność dokumentów – np. dane z protokołu niezgodne z danymi w uchwał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mułowanie dokumentów w ten sposób aby na ostatniej stronie nie znajdowały się tylko podpis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93" name="pole tekstowe 1"/>
          <p:cNvSpPr/>
          <p:nvPr/>
        </p:nvSpPr>
        <p:spPr>
          <a:xfrm>
            <a:off x="431640" y="165564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ozostał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Zalecenia pokontrol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ole tekstowe 2"/>
          <p:cNvSpPr/>
          <p:nvPr/>
        </p:nvSpPr>
        <p:spPr>
          <a:xfrm>
            <a:off x="395280" y="2708280"/>
            <a:ext cx="822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lan szkoleń – założenia adekwatne do możliwości realizacj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ryteria wyboru – powinny być ustalane w sposób zrozumiały, realny i nie budujący wątpliwości z punktu widzenia wnioskodaw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97" name="pole tekstowe 1"/>
          <p:cNvSpPr/>
          <p:nvPr/>
        </p:nvSpPr>
        <p:spPr>
          <a:xfrm>
            <a:off x="431640" y="165564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ozostał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Zalecenia pokontrol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ole tekstowe 2"/>
          <p:cNvSpPr/>
          <p:nvPr/>
        </p:nvSpPr>
        <p:spPr>
          <a:xfrm>
            <a:off x="419040" y="2708280"/>
            <a:ext cx="822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regulowania dotyczące uzyskania przez dwu lub więcej wnioskodawców identycznej liczby punktów – jeżeli znaczenie ma godzina przyjęcia wniosku – należy wpisać dokładną godzinę przyjęcia wniosku (zdarzały się sytuacje, iż w LGD przyjęto kilka wniosków o dokładnie tej samej godzini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01" name="pole tekstowe 1"/>
          <p:cNvSpPr/>
          <p:nvPr/>
        </p:nvSpPr>
        <p:spPr>
          <a:xfrm>
            <a:off x="431640" y="165564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ozostał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6-08-26T06:50:38Z</cp:lastPrinted>
  <dcterms:modified xsi:type="dcterms:W3CDTF">2017-12-05T06:13:34Z</dcterms:modified>
  <cp:revision>912</cp:revision>
  <dc:subject/>
  <dc:title>Slajd 1</dc:title>
</cp:coreProperties>
</file>