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ACDE-4F15-4063-A2DC-3A4C3BB88C1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9D1E-E388-470B-BE76-A3B0B686EFE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5D1B-F677-4F53-9FB8-2FDEB583F75E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658E-6BE6-4CEF-94B5-458175301265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820800"/>
            <a:ext cx="7777080" cy="28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odsumowanie naborów wniosków na projekty grantowe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 ramach poddziałania 19.2.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Najczęściej występujące błędy</a:t>
            </a: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1"/>
          <p:cNvSpPr/>
          <p:nvPr/>
        </p:nvSpPr>
        <p:spPr>
          <a:xfrm>
            <a:off x="431640" y="76500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Błędy we wnioskach grantow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19040" y="1700280"/>
            <a:ext cx="82216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rak uzasadnień  zgodności operacji z celami przekrojowymi tj. innowacyjność, klimat, środowisko. (Jeśli już LGD zaznaczyła, że projekt realizuje cel przekrojowe to należy opisać w jaki sposób cele te są realizowan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zczegółowy opis zadań zbyt ogólnikowy (dobrą praktyką jest np. wykorzystanie szczegółowego opisu zadań z dawnych małych projektów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rak dokumentów uzasadniających wysokość planowanych do poniesienia kosz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rak uzasadnień dotyczących niekomercyjnego charakteru operacji (w najnowszej wersji wniosku w przypadku, gdy operacja będzie realizowana w zakresie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woju ogólnodostępnej i niekomercyjnej infrastruktury turystycznej lub rekreacyjnej, lub kulturalnej należy załączyć NPV dla każdego zadania – grantu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ależności od charakteru projektu brak w opisie operacji szczegółowych informacji dot. np. szkoleń czy warsztatów (miejsce realizacji, termin, grupa docelowa, program itp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rostokąt 1"/>
          <p:cNvSpPr/>
          <p:nvPr/>
        </p:nvSpPr>
        <p:spPr>
          <a:xfrm>
            <a:off x="473040" y="1628640"/>
            <a:ext cx="820908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twierdzenie przeprowadzenia oceny spełniania przez grantobiorców warunków, o których mowa w § 13 ust. 1 pkt 4 – 6 rozporządzenia – dla każdego zadania oddzielnie – nowa wersja wnios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anty zostaną udzielone grantobiorcom na podstawie umowy o powierzenie grantu, do wysokości limitu, który wynosi 100 tys. złotych na jednego grantobiorcę w ramach projektów grantowych realizowanych przez daną LGD”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5)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ma grantów planowanych do udzielenia jednostkom sektora finansów publicznych w ramach danego projektu grantowego nie przekracza 20% kwoty pomocy na ten projekt”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6)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ażdy grantobiorca spełnia warunki określone w § 3 ust. 1 lub 4 i § 4 ust. 1 pkt 4 i 7 oraz nie wykonuje działalności gospodarczej, z tym że w przypadku grantobiorcy, który zgodnie ze swoim statutem w ramach swojej struktury organizacyjnej powołał jednostki organizacyjne, takie jak sekcje lub koła, pomoc jest przyznawana nawet gd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a)  warunek określony w § 3 ust. 1 pkt 2 nie jest spełniony, jeżeli obszar działalności grantobiorcy i jego jednostki organizacyjnej pokrywa się z obszarem wiejskim objętym LSR, a realizacja zadania, na które jest udzielany grant, jest związana z przedmiotem działalności danej jednostki organizacyjnej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b) grantobiorca wykonuje działalność gospodarczą, jeżeli realizacja zadania, na które jest udzielany grant, nie jest związana z przedmiotem tej działalności, ale jest związana z przedmiotem działalności jednostki organizacyjnej grantobiorc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1"/>
          <p:cNvSpPr/>
          <p:nvPr/>
        </p:nvSpPr>
        <p:spPr>
          <a:xfrm>
            <a:off x="431640" y="76500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Błędy we wnioskach grantow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rostokąt 1"/>
          <p:cNvSpPr/>
          <p:nvPr/>
        </p:nvSpPr>
        <p:spPr>
          <a:xfrm>
            <a:off x="468360" y="198900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o własności do nieruchomości: brak lub zbyt krótki cz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fekt deadweight: wypełnienie w zbyt optymistyczny sposób powoduje odrzucenie wnios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głoszenia, pozwolenia: brak potwierdzenia że właściwy organ nie wniósł sprzeciwu lub brak ostatecznej decyz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ole tekstowe 1"/>
          <p:cNvSpPr/>
          <p:nvPr/>
        </p:nvSpPr>
        <p:spPr>
          <a:xfrm>
            <a:off x="431640" y="76500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Błędy we wnioskach grantow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rostokąt 1"/>
          <p:cNvSpPr/>
          <p:nvPr/>
        </p:nvSpPr>
        <p:spPr>
          <a:xfrm>
            <a:off x="468360" y="199692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grantobiorców, którzy realizowali wcześniej jakiś projekt np. MP należy zwrócić uwagę na okres związania z celem poprzedniego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odrębniony rachunek bankowy dot. wyprzedzającego finansowania –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LGD, które ubiegają się o pożyczę z BGK – uczulamy na wcześniejsze zbadanie tema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1"/>
          <p:cNvSpPr/>
          <p:nvPr/>
        </p:nvSpPr>
        <p:spPr>
          <a:xfrm>
            <a:off x="431640" y="765000"/>
            <a:ext cx="82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a co należy zwrócić uwagę składając wnios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4022640"/>
            <a:ext cx="34020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5T06:13:58Z</dcterms:modified>
  <cp:revision>897</cp:revision>
  <dc:subject/>
  <dc:title>Slajd 1</dc:title>
</cp:coreProperties>
</file>