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1E9A-298B-4FA6-BC89-7D0FFFB58EC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4ECE-A746-46DB-900E-9CA83724682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85C8-9ED7-456E-9CBF-510845A2567C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66D6-B728-42F2-9852-8E49947561C0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251000"/>
            <a:ext cx="7777080" cy="19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Najczęściej występujące błędy w naborach wniosków w ramach poddziałania 19.2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4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541440" y="1774800"/>
            <a:ext cx="7991280" cy="1614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60320" y="3789360"/>
            <a:ext cx="7553520" cy="1797120"/>
          </a:xfrm>
          <a:prstGeom prst="rect">
            <a:avLst/>
          </a:prstGeom>
          <a:ln w="0">
            <a:noFill/>
          </a:ln>
        </p:spPr>
      </p:pic>
      <p:sp>
        <p:nvSpPr>
          <p:cNvPr id="207" name="Łącznik prostoliniowy 7"/>
          <p:cNvSpPr/>
          <p:nvPr/>
        </p:nvSpPr>
        <p:spPr>
          <a:xfrm>
            <a:off x="2340000" y="3573360"/>
            <a:ext cx="410508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Łącznik prostoliniowy 7"/>
          <p:cNvSpPr/>
          <p:nvPr/>
        </p:nvSpPr>
        <p:spPr>
          <a:xfrm>
            <a:off x="2341440" y="371628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1552680" y="1773360"/>
            <a:ext cx="5646600" cy="1774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3"/>
          <a:stretch/>
        </p:blipFill>
        <p:spPr>
          <a:xfrm>
            <a:off x="1332000" y="3860640"/>
            <a:ext cx="62643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4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Łącznik prostoliniowy 7"/>
          <p:cNvSpPr/>
          <p:nvPr/>
        </p:nvSpPr>
        <p:spPr>
          <a:xfrm>
            <a:off x="2341440" y="299736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8137440" cy="530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3"/>
          <a:stretch/>
        </p:blipFill>
        <p:spPr>
          <a:xfrm>
            <a:off x="574560" y="3429000"/>
            <a:ext cx="80312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9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Łącznik prostoliniowy 7"/>
          <p:cNvSpPr/>
          <p:nvPr/>
        </p:nvSpPr>
        <p:spPr>
          <a:xfrm>
            <a:off x="2340000" y="4437000"/>
            <a:ext cx="410508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507960" y="4522680"/>
            <a:ext cx="7993080" cy="133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3"/>
          <a:stretch/>
        </p:blipFill>
        <p:spPr>
          <a:xfrm>
            <a:off x="1440000" y="1670040"/>
            <a:ext cx="5905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24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539640" y="1674720"/>
            <a:ext cx="5832720" cy="4172040"/>
          </a:xfrm>
          <a:prstGeom prst="rect">
            <a:avLst/>
          </a:prstGeom>
          <a:ln w="0">
            <a:noFill/>
          </a:ln>
        </p:spPr>
      </p:pic>
      <p:sp>
        <p:nvSpPr>
          <p:cNvPr id="226" name="pole tekstowe 1"/>
          <p:cNvSpPr/>
          <p:nvPr/>
        </p:nvSpPr>
        <p:spPr>
          <a:xfrm>
            <a:off x="6372360" y="2314440"/>
            <a:ext cx="2160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ie są już przekazywane do S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isty operacji wybranych i zgodnych z LSR -będą pobierane ze strony www LG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klaracje bezstronności – co nie zwalnia z ich wypełni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9280" y="1267920"/>
            <a:ext cx="81914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2"/>
          <p:cNvSpPr/>
          <p:nvPr/>
        </p:nvSpPr>
        <p:spPr>
          <a:xfrm>
            <a:off x="604800" y="1844640"/>
            <a:ext cx="7705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godność z celami i wskaźnikami (karty oc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 zaznaczenia celów ogólnych i/lub celów szczegółowych i/lub wskaźników produktu i/lub wskaźników rezultatu (omył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4" name="pole tekstowe 1"/>
          <p:cNvSpPr/>
          <p:nvPr/>
        </p:nvSpPr>
        <p:spPr>
          <a:xfrm>
            <a:off x="628560" y="3789360"/>
            <a:ext cx="7704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chwał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asadnienie oc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blematyczna śred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Łącznik prostoliniowy 2"/>
          <p:cNvSpPr/>
          <p:nvPr/>
        </p:nvSpPr>
        <p:spPr>
          <a:xfrm>
            <a:off x="2411280" y="353700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8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ole tekstowe 3"/>
          <p:cNvSpPr/>
          <p:nvPr/>
        </p:nvSpPr>
        <p:spPr>
          <a:xfrm>
            <a:off x="684360" y="1773360"/>
            <a:ext cx="7632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blemy techniczne spowodowane wadliwością systemu lub błędnym wprowadzeniem do syste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4"/>
          <p:cNvSpPr/>
          <p:nvPr/>
        </p:nvSpPr>
        <p:spPr>
          <a:xfrm>
            <a:off x="873000" y="3716280"/>
            <a:ext cx="7417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nformowanie Wnioskodawców o wyniku wy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asadnienie oceny poszczególnych kryteriów, zgodnośc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 LSR, ustalonej kwoty wspar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łaściwe pouczenie o proteś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Łącznik prostoliniowy 5"/>
          <p:cNvSpPr/>
          <p:nvPr/>
        </p:nvSpPr>
        <p:spPr>
          <a:xfrm>
            <a:off x="2411280" y="353700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3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1"/>
          <p:cNvSpPr/>
          <p:nvPr/>
        </p:nvSpPr>
        <p:spPr>
          <a:xfrm>
            <a:off x="917640" y="1557360"/>
            <a:ext cx="7272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ierwsze strony wnios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% ustalony przez L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i lub oczywist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asadnienia zgodności z cela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5"/>
          <p:cNvSpPr/>
          <p:nvPr/>
        </p:nvSpPr>
        <p:spPr>
          <a:xfrm>
            <a:off x="900000" y="4149720"/>
            <a:ext cx="7201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ocedura oceny i wyboru a Regulamin R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rupy interesu w Regulaminie R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lejność na liście rankingowej – ta sama liczba punk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Łącznik prostoliniowy 5"/>
          <p:cNvSpPr/>
          <p:nvPr/>
        </p:nvSpPr>
        <p:spPr>
          <a:xfrm>
            <a:off x="2411280" y="393372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8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ole tekstowe 3"/>
          <p:cNvSpPr/>
          <p:nvPr/>
        </p:nvSpPr>
        <p:spPr>
          <a:xfrm>
            <a:off x="539640" y="1773360"/>
            <a:ext cx="79930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stosowanie wytycznej 6/4/2017 lub wcześniejs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w zakresie ustalenia kwoty wspar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stosowanie zaokrąglania kwot do pełnych złot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stosowanie właściwego poziomu dofinansow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stalona kwota wsparcia według pozostałych środków w nabo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można „wciskać” operację w limit o ile wskazano zapisy w procedur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1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ole tekstowe 3"/>
          <p:cNvSpPr/>
          <p:nvPr/>
        </p:nvSpPr>
        <p:spPr>
          <a:xfrm>
            <a:off x="561960" y="1844640"/>
            <a:ext cx="78976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stosowanie wytycznej 6/4/2017 lub wcześniejs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w zakresie zgodności z PR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ytuły praw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umowy wstępne, przyrzeczenie zawarcie umowy, umowy zawarte nie przez wszystkich właścicieli, brak oświadczeń właścicieli/współwłaścicieli, okres nie zapewnia zapewnienia celu w okresie trwałoś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ość z ustawą o swobodzie działalności gospodarczej (podejmowanie i rozwijan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świadczenie, zasoby, kwalifikacje, prowadzenie działaln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4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rostokąt 1"/>
          <p:cNvSpPr/>
          <p:nvPr/>
        </p:nvSpPr>
        <p:spPr>
          <a:xfrm>
            <a:off x="684360" y="2274840"/>
            <a:ext cx="770400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stosowanie zapisów rozporządzenia/usta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kład własny jsfp to wkład krajowych środków publiczn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kwota kosztów kwalifikowalnych jsfp obciąża limit środk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głoszeni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erminy na dokonanie wyboru, na przekazanie do Z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2"/>
          <p:cNvSpPr/>
          <p:nvPr/>
        </p:nvSpPr>
        <p:spPr>
          <a:xfrm>
            <a:off x="3556800" y="7650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ermi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rostokąt 1"/>
          <p:cNvSpPr/>
          <p:nvPr/>
        </p:nvSpPr>
        <p:spPr>
          <a:xfrm>
            <a:off x="684360" y="2060640"/>
            <a:ext cx="77040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miana Ustawy R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szła w życie 2 września 2017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obowiązuje dla naborów, które rozpoczęły bieg 2 września lub późni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miana rozporządzenia 19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szła w życie 9 września 2017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obowiązuje dla naborów, które rozpoczęły bieg 9 września lub późni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ytyczna 6/4/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bowiązuje od 1 grudnia 2017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lub wcześniej o ile LGD dostosowały swoje procedu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0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542880" y="2924280"/>
            <a:ext cx="7840800" cy="124920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2"/>
          <p:cNvSpPr/>
          <p:nvPr/>
        </p:nvSpPr>
        <p:spPr>
          <a:xfrm>
            <a:off x="2069280" y="2133720"/>
            <a:ext cx="46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eklaracje bezstronności i poufn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6T06:40:31Z</dcterms:modified>
  <cp:revision>906</cp:revision>
  <dc:subject/>
  <dc:title>Slajd 1</dc:title>
</cp:coreProperties>
</file>