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E4AA-7CE2-4E61-A118-2740CDCFC4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5861-0DBA-4910-B1D0-27BAF7E122D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6CFF-3DE1-4D76-9020-28F4994A92B0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E9EB-CD7B-4DCE-9082-D745C728BE68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e wnioskach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1120" y="2319480"/>
            <a:ext cx="822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właściciela(i) lub współwłaściciela(i) nieruchomości, że wyraża(ją) on(i) zgodę na realizację operacji bezpośrednio związanej z nieruchomością, jeżeli operacja jest realizowana na terenie nieruchomości będącej w posiadaniu zależnym lub będącej przedmiotem współwłasności - załącznik obowiązkowy w przypadku, gdy realizacja operacji obejmuje zadania trwale związane z nieruchomością lub wyposażenie – brak skreśleń w odpowiednich polach formular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450720" y="2517840"/>
            <a:ext cx="81727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acjonalność 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y uzasadniające przyjęty poziom cen dla danego zadania – brak parafowania przez podmiot ubiegający się o przyznanie pomocy wydruków ze stron internetowych, broszur, katalogów, i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3164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sztorys inwestorski – brak wszystkich elementów, o których mowa w rozporządzeniu Ministra Infrastruktury z dnia 18 maja 2004 r. w sprawie określenia metod i podstaw sporządzania kosztorysu inwestorskiego, obliczania planowanych kosztów prac projektowych oraz planowanych kosztów robót budowlanych określonych w programie funkcjonalno-użytkow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1547640" y="2266920"/>
            <a:ext cx="6228000" cy="3571920"/>
          </a:xfrm>
          <a:prstGeom prst="rect">
            <a:avLst/>
          </a:prstGeom>
          <a:ln w="0">
            <a:noFill/>
          </a:ln>
        </p:spPr>
      </p:pic>
      <p:sp>
        <p:nvSpPr>
          <p:cNvPr id="223" name="Łącznik prostoliniowy 2"/>
          <p:cNvSpPr/>
          <p:nvPr/>
        </p:nvSpPr>
        <p:spPr>
          <a:xfrm>
            <a:off x="1763640" y="23493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2"/>
          <p:cNvSpPr/>
          <p:nvPr/>
        </p:nvSpPr>
        <p:spPr>
          <a:xfrm>
            <a:off x="4316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py lub szkice sytuacyjne oraz rysunki charakterystyczne dotyczące umiejscowienia operacji – załączone szkice nie pozwalają na identyfikację zakresu planowanych do wykonania prac oraz nie umożliwiają sprawdzenie przedmiaru robó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ole tekstowe 2"/>
          <p:cNvSpPr/>
          <p:nvPr/>
        </p:nvSpPr>
        <p:spPr>
          <a:xfrm>
            <a:off x="420840" y="2349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mularze rozliczeniowe Zakładu Ubezpieczeń Społecznych z ostatnich 12 miesięcy poprzedzających miesiąc złożenia wniosku o przyznanie pomocy (w przypadku, gdy podmioty ubiegające się o przyznanie pomocy prowadzących działalność gospodarczą, którzy w związku z realizacją operacji planują utworzenie / utrzymanie miejsc(a) pracy ) – brak podpisu wnioskodawcy oraz na przedłożonych deklaracjach ZUS brak pieczątek wpływu ZUS (w przypadku przedkładania w ZUS deklaracji „w wersji papierowej”) lub potwierdzenia wysłania/kodów kreskowych (w przypadku gdy Deklaracje rozliczeniowe składane są do ZUS drogą elektroniczną (np. za pośrednictwem systemu PŁATNIK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187280" y="1378080"/>
            <a:ext cx="44643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e mini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podmiotu ubiegającego się o przyznanie pomocy o nie uzyskaniu pomocy de minimis – załącznik przedłożony wraz z wnioskiem o przyznanie pomocy nawet w sytuacji, gdy podmiot nie ubiega się o pomoc de mini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o kwalifikowalności VAT - brak skreśleń w odpowiednich polach formularza oraz brak podstawy praw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525600" y="2495520"/>
            <a:ext cx="81169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odp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"/>
          <p:cNvSpPr/>
          <p:nvPr/>
        </p:nvSpPr>
        <p:spPr>
          <a:xfrm>
            <a:off x="4316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daty sporządzenia biznesplanu i podpisu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pisu wyposażenia i infrastruktury pomieszczeń (wykazanych w pkt. 2.2), jeśli podmiot ubiegający się o przyznanie pomocy dysponuje już odpowiednim lokalem na potrzeby prowadzenia działalnoś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777960" y="2421000"/>
            <a:ext cx="748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przewidywana data dokonania płatności ostatecznej. Zazwyczaj wnioskodawcy wpisują datę złożenia wniosku o płatn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1128600" y="2637000"/>
            <a:ext cx="68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2"/>
          <p:cNvSpPr/>
          <p:nvPr/>
        </p:nvSpPr>
        <p:spPr>
          <a:xfrm>
            <a:off x="431640" y="2708280"/>
            <a:ext cx="822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Źródła finansowania operac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ystarczających źródeł finansowania kosztów całkowitych oper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źródeł finansowania kosztów prowadzenia działalności przez okres 2 lat od dokonania przez ARiMR płatności końcow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3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258920" y="2300400"/>
            <a:ext cx="61437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2"/>
          <p:cNvSpPr/>
          <p:nvPr/>
        </p:nvSpPr>
        <p:spPr>
          <a:xfrm>
            <a:off x="431640" y="229536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stawienie przewidywanych wydatków niezbędnych do realizacji operacj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końcu zestawienia brak kosztów niekwalifikowalnych np. podatek V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uzasadniających konieczność poniesienia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arametrów planowanych do poniesienia wydat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. wydatki stanowiące podstawę do wyliczenia kwoty pomocy – błędne kw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1030320" y="2300400"/>
            <a:ext cx="6781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504720" y="2313000"/>
            <a:ext cx="80647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ycja: Realizacja operacji spowoduje utrzymanie miejsc pracy, Realizacja operacji spowoduje utworzenie miejsc pracy – błędne skreślenia i licz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1171440" y="2349360"/>
            <a:ext cx="68011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ole tekstowe 2"/>
          <p:cNvSpPr/>
          <p:nvPr/>
        </p:nvSpPr>
        <p:spPr>
          <a:xfrm>
            <a:off x="431640" y="2243160"/>
            <a:ext cx="8221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zysków i 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uzasadnienia wysokości przychod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innych przychodach brak uwzględnienia kwoty pomocy zgodnie z zasadą proporcjonalności przychodów i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zgodności założeń z wysokością kosztów uwzględnionych w tabel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e założenia dot. przychodów i koszt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(założeń) uzasadniających wysokość poszczególnych kosztów w kolejnych lat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2227320" y="1360440"/>
            <a:ext cx="4587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ole tekstowe 2"/>
          <p:cNvSpPr/>
          <p:nvPr/>
        </p:nvSpPr>
        <p:spPr>
          <a:xfrm>
            <a:off x="419040" y="177336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uzupełnie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cja nie spełnia podmiotowych warunków udzielenia wsparcia opisanych w rozporządzeniu Ministra Rolnictwa i Rozwoju Wsi z dnia 24 września 2015 r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statecznej decyzji o pozwoleniu na budowę oraz brak rysunków umożliwiających weryfikację zakresu, miejsca i ilości planowanych do wykonania prac objętych wnioskiem o przyznanie pomo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419040" y="1773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terminowe uzupełnienie braków we wniosku o przyznanie pomocy spowodowane nadaniem pisma w sprawie usunięcia braków i oczywistych omyłek przesyłką nierejestrowan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ie z zasadami w przypadku usunięcia braków/złożenia wyjaśnień nadanych przesyłką rejestrowaną w polskiej placówce pocztowej operatora wyznaczonego w rozumieniu przepisów prawa pocztowego, o terminowości ich złożenia decyduje data stempla pocztowego, a w przypadku ich dostarczenia w innej formie, o terminowości złożenia decyduje data wpływu do Urzędu Marszałkowskiego Województwa Łódzkie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8000" y="3933720"/>
            <a:ext cx="348588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e wyliczenie wartości początkowej dla wskaźnika: liczba utworzonych miejsc p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979640" y="1682640"/>
            <a:ext cx="521964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743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375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wnioskowana kwota pomocy – podana z groszami lub zaokrąglona do gó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widencja producen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a o wpisie producenta do ewidencji producentów – brak pisemnej zgody rolnika lub  współposiadacza gospodarstwa rolnego na nadanie numeru identyfikacyjnego ich małżonkowi lub współposiadaczow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7:46:01Z</dcterms:modified>
  <cp:revision>901</cp:revision>
  <dc:subject/>
  <dc:title>Slajd 1</dc:title>
</cp:coreProperties>
</file>