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0BEE-1CE4-4753-8A1B-67E8E01FECA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48A8-9B90-42B1-B0F1-E48BC442D65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 czym wnioskodawca jest informowany na piśmie odpowiednio przez LGD, za pośrednictwem której wniesiono protest, albo przez zarząd województwa, a informacja ta zawiera pouczenie o możliwości wniesienia skargi do sądu administracyjne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waga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przez „dany cel LSR”, o którym mowa w art. 22 ust. 8 pkt 3 ustawy RLKS, należy rozumieć cel ogólny LS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33C1-3F74-465F-8909-C17D13045FD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2306-D477-4AF9-9BF4-A51C421E745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44D4-D9C0-4C30-A377-86F730439C6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Od niektórych 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– nie od wszystkich (sugeruje to już sam fakt, że tylko w niektórych pismach do wnioskodawców dołącza się pouczenie o prawie do protes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9099-AD39-446D-884E-0EB20C588B6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st jest wnoszony w formie pisemnej i zawi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 7 d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) do którego zarządu województwa należy skierować protest i za pośrednictwem której LG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znaczenie wnioskodawcy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numer wniosku o dofinansowanie projektu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skazanie kryteriów wyboru projektów, z których oceną wnioskodawca się nie zgadza, wraz z uzasadnieni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skazanie zarzutów o charakterze proceduralnym w zakresie przeprowadzonej oceny, jeżeli zdaniem wnioskodawcy naruszenia takie miały miejsce, wraz z uzasadnieni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negatywnej oceny zgodności operacji z LSR wskazanie, w jakim zakresie podmiot ubiegający się o wsparcie nie zgadza się z tą oceną, oraz uzasadnieni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ustalenia przez LGD kwoty wsparcia niższej niż wnioskowana wskazanie, w jakim zakresie podmiot ubiegający się o wsparcie  nie zgadza się z tym ustaleniem, oraz uzasadnieni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pis wnioskodawcy lub osoby upoważnionej do jego reprezentowania, z załączeniem oryginału lub kopii dokumentu poświadczającego umocowanie takiej osoby do reprezentowania wnioskodaw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46A8-4B8D-40C2-A248-D6832CF3EE2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(art. 54 ust. 2-6 ustawy PS w zw. z art. 22 ust. 3 i 4 ustawy RLK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4431-F3C9-4428-A606-6800AA473AF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wniesienia protestu niespełniającego ww. wymogów formalnych lub zawierającego oczywiste omyłki, właściwa instytucja </a:t>
            </a: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ROBI TO LGD, EWENTUALNIE ZW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zywa wnioskodawcę do jego uzupełnienia lub poprawienia w nim oczywistych omyłek, w terminie 7 dni, licząc od dnia otrzymania wezwania, pod rygorem pozostawienia protestu bez rozpatrze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2C07-6ABE-4C69-9F51-1700C04F931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657A-6877-4752-81C5-1C17621E0E9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ff0000"/>
                </a:solidFill>
                <a:uFillTx/>
                <a:latin typeface="Calibri"/>
              </a:rPr>
              <a:t>21</a:t>
            </a: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bo 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Calibri"/>
              </a:rPr>
              <a:t>45</a:t>
            </a: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i od dnia jego otrzyma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B697-A996-43D1-A305-A7D6D4C44C1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rząd województwa, rozpatruje protest, weryfikując prawidłowość oceny operacji w zakresie kryteriów i zarzutów podnoszonych w proteście, w terminie nie dłuższym niż 30 dni, licząc od dnia jego otrzymania. W uzasadnionych przypadkach, w szczególności gdy w trakcie rozpatrywania protestu konieczne jest skorzystanie z pomocy ekspertów, termin rozpatrzenia protestu może być przedłużony, o czym zarząd województwa informuje na piśmie wnioskodawcę. Termin rozpatrzenia protestu nie może przekroczyć łącznie 60 dni od dnia jego otrzyma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1F6F-0D17-41A5-8B1E-C71E56E3F99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ABD6-2CA6-4AA3-84B2-CF9F6A20CBA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B0C1-6337-4D29-AE4D-3780C64CB6AD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280" y="1204920"/>
            <a:ext cx="7777080" cy="20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cedura odwoławcza od rozstrzygnięć LGD w klasycznej ścieżce konkursowej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TEST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/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zostawienie protestu bez rozpatrz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cc00"/>
                </a:solidFill>
                <a:latin typeface="Arial"/>
              </a:rPr>
              <a:t>(art. 59 i 66 ust. 2 ustawy PS w zw. z art. 22 ust. 8 ustawy RLK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"/>
          <p:cNvSpPr/>
          <p:nvPr/>
        </p:nvSpPr>
        <p:spPr>
          <a:xfrm>
            <a:off x="395280" y="170028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test pozostawia się bez rozpatrzenia jeżeli (pomimo prawidłowego pouczeni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ostał wniesiony po termi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ostał wniesiony przez podmiot wykluczony z możliwości otrzymania wsparc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 wskazuje kryteriów wyboru operacji, z których oceną wnioskodawca się nie zgadza, lub w jakim zakresie wnioskodawca, nie zgadza się z negatywną oceną zgodności operacji z LSR lub w jakim zakresie wnioskodawca nie zgadza się z ustaleniem przez LGD kwoty wsparcia niższej niż wnioskowana oraz nie zawiera uzasadni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Protest pozostawia się bez rozpatrzenia także wówczas, gdy została wyczerpana kwota środków przewidzianych w umowie ramowej na realizację danego celu LSR w ramach środków pochodzących z danego EF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rostokąt 1"/>
          <p:cNvSpPr/>
          <p:nvPr/>
        </p:nvSpPr>
        <p:spPr>
          <a:xfrm>
            <a:off x="468360" y="2276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sytuacji błędnego pouczenia, nie można pozostawić bez rozpatrzenia protestu, który został wniesio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po termi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bez spełnienia wymogów określonych w art. 54 ust. 2 pkt 4 ustawy o polityce spójnoś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akim przypadku należy wezwać wnioskodawcę do uzupełnień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rozpatrzyć pro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ymbol zastępczy tekstu 4"/>
          <p:cNvSpPr/>
          <p:nvPr/>
        </p:nvSpPr>
        <p:spPr>
          <a:xfrm>
            <a:off x="468360" y="77940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stępowania w przypadku, gdy pismo informujące do wnioskodawcy nie zawiera pouczenia, bądź zawiera błędne pou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3"/>
          <p:cNvSpPr/>
          <p:nvPr/>
        </p:nvSpPr>
        <p:spPr>
          <a:xfrm>
            <a:off x="388800" y="4507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476360" y="1916280"/>
          <a:ext cx="6095880" cy="34099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nioskod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wota po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ość punk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zy mieści się w limi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 uwzględniony pro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 – limit na poziomie celu ogóln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7" name="pole tekstowe 2"/>
          <p:cNvSpPr/>
          <p:nvPr/>
        </p:nvSpPr>
        <p:spPr>
          <a:xfrm>
            <a:off x="1390680" y="90792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zenie protestu – wybrany w limi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476360" y="1916280"/>
          <a:ext cx="6095880" cy="34099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nioskod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wota po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ość punk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zy mieści się w limi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 – uwzględniony pro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9" name="pole tekstowe 2"/>
          <p:cNvSpPr/>
          <p:nvPr/>
        </p:nvSpPr>
        <p:spPr>
          <a:xfrm>
            <a:off x="1390680" y="90792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zenie protestu – wybrany poza lim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3882960"/>
            <a:ext cx="4103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395280" y="1644480"/>
            <a:ext cx="81932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becnej perspektyw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 niektórych rozstrzygnięć Rady przysługuje środek odwoławczy (art. 22 RLK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) operacja została negatywnie oceniona pod względem zgodności z LSR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) operacja nie uzyskała minimalnej liczby punktów w ramach kryteriów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boru operacji (czyli nie została wybrana przez LGD)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) operacja została wybrana ale nie mieści się w limicie środków wskazanym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głoszeniu o naborze wniosków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) protest przysługuje także od ustalenia przez LGD kwoty wsparcia niższej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ż wnioskowa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ostokąt 1"/>
          <p:cNvSpPr/>
          <p:nvPr/>
        </p:nvSpPr>
        <p:spPr>
          <a:xfrm>
            <a:off x="1116000" y="27050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II pię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1"/>
          <p:cNvSpPr/>
          <p:nvPr/>
        </p:nvSpPr>
        <p:spPr>
          <a:xfrm>
            <a:off x="611280" y="2705040"/>
            <a:ext cx="78483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UCZENIE O MOŻLIWOŚCI WNIESIENIA PROTESTU OKREŚ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termin do wniesi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oznaczenie instytucji właściwej do rozpatrz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wymogi formalne protes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uczenie o prawie do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ole tekstowe 2"/>
          <p:cNvSpPr/>
          <p:nvPr/>
        </p:nvSpPr>
        <p:spPr>
          <a:xfrm>
            <a:off x="1112760" y="19000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"/>
              </a:rPr>
              <a:t>(art. 21 ust. 5 i 6 ustawy RLKS oraz art. 46 ust. 5 ustawy PS w zw. z art. 21 ust. 7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Forma wnoszenia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rostokąt 3"/>
          <p:cNvSpPr/>
          <p:nvPr/>
        </p:nvSpPr>
        <p:spPr>
          <a:xfrm>
            <a:off x="360360" y="1700280"/>
            <a:ext cx="8280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test jest wnoszony w formie pisemnej i zawier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) oznaczenie zarządu województwa właściwego do rozpatrzenia protestu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oznaczenie wnioskodawc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3) numer WoP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4) wskazanie kryteriów wyboru operacji oraz uzasadnienie stanowisk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5) wskazanie zarzutów o charakterze proceduralnym wraz z uzasadnieniem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6) podpis wnioskodawcy, lub osoby upoważnionej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nadto (jeśli dotyczy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) wskazanie, w jakim zakresie wnioskodawca nie zgadza się z negatywną oceną zgodności operacji z LSR oraz uzasadnieni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8) wskazanie, w jakim zakresie wnioskodawca nie zgadza się z ustaleniem przez LGD kwoty wsparcia niższej niż wnioskowana oraz uzasadnien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zupełni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rostokąt 2"/>
          <p:cNvSpPr/>
          <p:nvPr/>
        </p:nvSpPr>
        <p:spPr>
          <a:xfrm>
            <a:off x="468360" y="185904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upełnienie protestu może nastąpić wyłącznie w zakres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) oznaczenia zarządu województwa właściwego do rozpatrz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oznaczenia wnioskodawc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3) numeru WoP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4) podpisu wnioskodawcy, osoby upoważnionej do jego reprezentowania, lub dokumentu poświadczającego umocowanie osoby do reprezentow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rostokąt 1"/>
          <p:cNvSpPr/>
          <p:nvPr/>
        </p:nvSpPr>
        <p:spPr>
          <a:xfrm>
            <a:off x="395280" y="184464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 w terminie 14 dni od dnia otrzymania protestu weryfikuje wyniki dokonanej przez siebie oceny operacji w zakresie kryteriów i zarzutów podnoszonych w proteście,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konuje zmiany rozstrzygn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kierowanie operacji do właściwego etapu oceny alb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mieszczenie na liście operacji wybranych, al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kieruje protest do zarządu wojewódz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zależnie od powyższego, o wniesionym proteście LGD informuje niezwłocznie zarząd wojewódz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ymbol zastępczy tekstu 4"/>
          <p:cNvSpPr/>
          <p:nvPr/>
        </p:nvSpPr>
        <p:spPr>
          <a:xfrm>
            <a:off x="324000" y="561960"/>
            <a:ext cx="8264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utokontrola” (LG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b050"/>
                </a:solidFill>
                <a:latin typeface="Arial"/>
              </a:rPr>
              <a:t>(art. 56 ust. 2 ustawy PS w zw. z art. 22 ust. 8 ustawy RLKS oraz art. 22 ust. 7 ustawy RLK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rostokąt 1"/>
          <p:cNvSpPr/>
          <p:nvPr/>
        </p:nvSpPr>
        <p:spPr>
          <a:xfrm>
            <a:off x="372960" y="2205000"/>
            <a:ext cx="455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rząd wojewódz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względnienia protest or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ieruje protest do właściwego etapu oc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rzekazuje LGD w celu ponownej oc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nie uwzględnia protestu – pouczenie o możliwości wniesienia skargi do sądu administracyj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ywanie protestu (zarząd województw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7 oraz art. 58 ust. 1 i 2 ustawy PS w zw. z art. 22 ust. 8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Znalezione obrazy dla zapytania rozpatrzenie"/>
          <p:cNvPicPr/>
          <p:nvPr/>
        </p:nvPicPr>
        <p:blipFill>
          <a:blip r:embed="rId2"/>
          <a:stretch/>
        </p:blipFill>
        <p:spPr>
          <a:xfrm>
            <a:off x="4840200" y="1847880"/>
            <a:ext cx="37800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rostokąt 1"/>
          <p:cNvSpPr/>
          <p:nvPr/>
        </p:nvSpPr>
        <p:spPr>
          <a:xfrm>
            <a:off x="372960" y="2205000"/>
            <a:ext cx="455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konuje zmiany rozstrzygnięcia i umieszcza na liście operacji wybranych w limic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nie uwzględnia protestu – pouczenie o możliwości wniesienia skargi do sądu administracyj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ywanie protestu (LG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7 oraz art. 58 ust. 1 i 2 ustawy PS w zw. z art. 22 ust. 8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Znalezione obrazy dla zapytania rozpatrzenie"/>
          <p:cNvPicPr/>
          <p:nvPr/>
        </p:nvPicPr>
        <p:blipFill>
          <a:blip r:embed="rId2"/>
          <a:stretch/>
        </p:blipFill>
        <p:spPr>
          <a:xfrm>
            <a:off x="4840200" y="1847880"/>
            <a:ext cx="37800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nowny wybór operacji przez LG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8 ust. 3 i 4 ustawy PS w zw. z art. 22 ust. 8 ustawy RLK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rostokąt 2"/>
          <p:cNvSpPr/>
          <p:nvPr/>
        </p:nvSpPr>
        <p:spPr>
          <a:xfrm>
            <a:off x="442800" y="29844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 dokonuj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mian w sporządzonych dla naboru i opublikowanych listach (możliwe jest podjęcie i opublikowanie listy „technicznej”, zawierającej operacje „po proteście”, przesunięcia na liście rezerwowej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rostokąt 3"/>
          <p:cNvSpPr/>
          <p:nvPr/>
        </p:nvSpPr>
        <p:spPr>
          <a:xfrm>
            <a:off x="420840" y="3908520"/>
            <a:ext cx="81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a rozstrzygnięcia LGD w zakresie oceny lub wyboru operacji, która nastąpi w związku z uwzględnieniem protestu, wiąże się przede wszystkim z koniecznością podjęcia przez LGD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osownej uchwały. Wskazane jest utworzenie i opublikowanie listy operacji ocenionych w ramach protestów. ZW dokonuje zestawienia projektów z listy pierwotnej oraz listy operacji „poprotestowych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rostokąt 4"/>
          <p:cNvSpPr/>
          <p:nvPr/>
        </p:nvSpPr>
        <p:spPr>
          <a:xfrm>
            <a:off x="504720" y="2060640"/>
            <a:ext cx="81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stępowania z operacjami, w odniesieniu do których, po rozpatrzeniu protestu, konieczne jest ich „umieszczenie" na liście operacji wybranych do finansowania (dodanie do listy / przesunięcie na liści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7-07-25T10:10:31Z</cp:lastPrinted>
  <dcterms:modified xsi:type="dcterms:W3CDTF">2017-12-05T13:50:35Z</dcterms:modified>
  <cp:revision>819</cp:revision>
  <dc:subject/>
  <dc:title>Slajd 1</dc:title>
</cp:coreProperties>
</file>