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F324-3E59-44F5-83F7-C9CE51EDE6B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A93B-0C31-4F1B-B26A-4073368DA50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5E88-271A-4B17-9108-A9A151ABD62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CB60-AC14-478D-BFD1-7EBA050DDD0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2CD7-DEBA-4C7C-BBC4-D5A5BBD919F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E563-032F-42B8-959F-85FFFA34026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91C6-7745-4030-AC8E-9FFA79AD3F6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612D-AF35-4D2D-ABCC-3FFFA7D3D8A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A65B-9488-4D11-9DA1-15068D689B4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7FD5-4996-466D-AEAB-71EA96B63CB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1C7A-12FE-443D-AE7E-98C4ED67AC5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E08D-C966-4BF1-AE60-006475FBBE4A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218880"/>
            <a:ext cx="7058160" cy="37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NIOSEK O PŁATNOŚĆ W RAMACH PODDZIAŁANIA 19.2 „WSPARCIE NA WDRAŻANIE OPERACJI W RAMACH STRATEGII ROZWOJU LOKALNEGO KIEROWANEGO PRZEZ SPOŁECZNOŚĆ” – </a:t>
            </a:r>
            <a:r>
              <a:rPr b="1" i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NAJCZĘŚCIEJ POPEŁNIANE BŁĘDY</a:t>
            </a:r>
            <a:br>
              <a:rPr sz="2000"/>
            </a:br>
            <a:br>
              <a:rPr sz="18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5148360" y="4724280"/>
            <a:ext cx="3527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Grudzień 201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ole tekstowe 3"/>
          <p:cNvSpPr/>
          <p:nvPr/>
        </p:nvSpPr>
        <p:spPr>
          <a:xfrm>
            <a:off x="503280" y="3575160"/>
            <a:ext cx="4498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Operacja współfinansowana ze środków Unii Europejskiej w ramach Krajowej Sieci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az 4" descr=""/>
          <p:cNvPicPr/>
          <p:nvPr/>
        </p:nvPicPr>
        <p:blipFill>
          <a:blip r:embed="rId1"/>
          <a:stretch/>
        </p:blipFill>
        <p:spPr>
          <a:xfrm>
            <a:off x="503280" y="477828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ŚWIADCZENIA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ole tekstowe 2"/>
          <p:cNvSpPr/>
          <p:nvPr/>
        </p:nvSpPr>
        <p:spPr>
          <a:xfrm>
            <a:off x="468360" y="1969920"/>
            <a:ext cx="7970760" cy="9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podpisu beneficjenta, miejscowości oraz daty wypełnienia wniosku o płatnoś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89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ffffff"/>
                </a:solidFill>
                <a:latin typeface="Calibri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E OG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ole tekstowe 2"/>
          <p:cNvSpPr/>
          <p:nvPr/>
        </p:nvSpPr>
        <p:spPr>
          <a:xfrm>
            <a:off x="468360" y="1969920"/>
            <a:ext cx="7970760" cy="47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podpisanych umów o przyznanie pomocy w ramach poddziałania 19.2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koło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250 um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ystawionych zleceń płatności dotyczących wyprzedzającego finansowania -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52 zlecenia na łączną kwotę 2 136 044,37 z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33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Users\michal.kosmowski\AppData\Local\Microsoft\Windows\Temporary Internet Files\Content.IE5\VQQ691JD\money-bag-400290_640[1].png"/>
          <p:cNvPicPr/>
          <p:nvPr/>
        </p:nvPicPr>
        <p:blipFill>
          <a:blip r:embed="rId2"/>
          <a:stretch/>
        </p:blipFill>
        <p:spPr>
          <a:xfrm>
            <a:off x="611280" y="546120"/>
            <a:ext cx="720720" cy="83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E OG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ole tekstowe 2"/>
          <p:cNvSpPr/>
          <p:nvPr/>
        </p:nvSpPr>
        <p:spPr>
          <a:xfrm>
            <a:off x="468360" y="1969920"/>
            <a:ext cx="79707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złożonych wniosków o płatność pośrednią –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51 wnios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ystawionych zleceń płatności dotyczących płatności pośrednich -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42 zlecenia na łączną kwotę 3 088 000,00 z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0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:\Users\michal.kosmowski\AppData\Local\Microsoft\Windows\Temporary Internet Files\Content.IE5\VQQ691JD\money-bag-400290_640[1].png"/>
          <p:cNvPicPr/>
          <p:nvPr/>
        </p:nvPicPr>
        <p:blipFill>
          <a:blip r:embed="rId2"/>
          <a:stretch/>
        </p:blipFill>
        <p:spPr>
          <a:xfrm>
            <a:off x="611280" y="546120"/>
            <a:ext cx="720720" cy="83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E OG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ole tekstowe 2"/>
          <p:cNvSpPr/>
          <p:nvPr/>
        </p:nvSpPr>
        <p:spPr>
          <a:xfrm>
            <a:off x="468360" y="1969920"/>
            <a:ext cx="79707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złożonych wniosków o płatność końcową –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5 wnios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ystawionych zleceń płatności dotyczących płatności końcowych -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1 zlecenie na kwotę 20 000,00 z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7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C:\Users\michal.kosmowski\AppData\Local\Microsoft\Windows\Temporary Internet Files\Content.IE5\VQQ691JD\money-bag-400290_640[1].png"/>
          <p:cNvPicPr/>
          <p:nvPr/>
        </p:nvPicPr>
        <p:blipFill>
          <a:blip r:embed="rId2"/>
          <a:stretch/>
        </p:blipFill>
        <p:spPr>
          <a:xfrm>
            <a:off x="611280" y="546120"/>
            <a:ext cx="720720" cy="83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E OG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ole tekstowe 2"/>
          <p:cNvSpPr/>
          <p:nvPr/>
        </p:nvSpPr>
        <p:spPr>
          <a:xfrm>
            <a:off x="468360" y="1969920"/>
            <a:ext cx="7970760" cy="52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niosek o płatność składany na niewłaściwej wersji formularz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niosek o płatność składany na formularzu dotyczącym innego rodzaju opera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wersji elektronicznej wniosku o płatność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54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ole tekstowe 2"/>
          <p:cNvSpPr/>
          <p:nvPr/>
        </p:nvSpPr>
        <p:spPr>
          <a:xfrm>
            <a:off x="468360" y="1969920"/>
            <a:ext cx="7970760" cy="74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łędny numer identyfikacyjny beneficjenta (numer producenta nadany przez ARiM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numeru NIP lub numeru REGON beneficjent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adresu e-mail beneficjen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danych osoby uprawnionej do kontak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61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SKAŹNIKI OSIĄGNIĘCIA CELU OPERA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ole tekstowe 2"/>
          <p:cNvSpPr/>
          <p:nvPr/>
        </p:nvSpPr>
        <p:spPr>
          <a:xfrm>
            <a:off x="468360" y="1969920"/>
            <a:ext cx="7970760" cy="74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osób pomiaru wskaźnika niezgodny z zapisami umowy o przyznanie pomoc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rtość wskaźnika osiągnięta w wyniku realizacji operacji niezgodna ze stanem faktycznym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68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A O ZAŁĄCZNIK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68360" y="1969920"/>
            <a:ext cx="7970760" cy="88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deklaracji ZUS ZUA i ZUS DRA (załączniki obowiązkow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składania przez beneficjenta deklaracji zgłoszeniowej lub rozliczeniowej do Zakładu Ubezpieczeń Społecznych drogą elektroniczną za pośrednictwem systemu PŁATNIK - brak dokumentu „Informacja o wysyłce i potwierdzeniu” informującego o uzyskaniu odpowiedniego statusu w systemi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osobistego składania deklaracji do ZUS - brak podpisu płatnika składek (beneficjenta) na deklaracji oraz brak potwierdzenia wpływu deklaracji do Zakładu Ubezpieczeń Społeczn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75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A O ZAŁĄCZNIK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2"/>
          <p:cNvSpPr/>
          <p:nvPr/>
        </p:nvSpPr>
        <p:spPr>
          <a:xfrm>
            <a:off x="468360" y="1969920"/>
            <a:ext cx="7970760" cy="10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ek bankowy, na który mają być przekazane środki finansowego założony na beneficjenta wspólnie z małżonkiem –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niedopuszczalne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świadczenie o numerze rachunku bankowego, na który mają być przekazane środki finansowe złożone w kopii – należy złożyć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oryginał dokument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numeru konta bankowego w systemie EBS ARiM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82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FRIII</cp:lastModifiedBy>
  <cp:lastPrinted>2013-10-21T07:28:16Z</cp:lastPrinted>
  <dcterms:modified xsi:type="dcterms:W3CDTF">2017-12-07T16:20:23Z</dcterms:modified>
  <cp:revision>851</cp:revision>
  <dc:subject/>
  <dc:title>Slajd 1</dc:title>
</cp:coreProperties>
</file>