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5B6F-5A4D-4DF4-840F-4EC4E2F7510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CA7A-D4D5-4565-8BF5-65B8D6D5177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0B27-6A94-4D52-9A57-E541B7D0520E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F103-5800-4A0D-86EA-215F526EA093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251000"/>
            <a:ext cx="7777080" cy="19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e wnioskach 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goda na realizacj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411120" y="2319480"/>
            <a:ext cx="822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właściciela(i) lub współwłaściciela(i) nieruchomości, że wyraża(ją) on(i) zgodę na realizację operacji bezpośrednio związanej z nieruchomością, jeżeli operacja jest realizowana na terenie nieruchomości będącej w posiadaniu zależnym lub będącej przedmiotem współwłasności - załącznik obowiązkowy w przypadku, gdy realizacja operacji obejmuje zadania trwale związane z nieruchomością lub wyposażenie – brak skreśleń w odpowiednich polach formular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6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goda na realizacj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450720" y="2517840"/>
            <a:ext cx="81727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Racjonalność 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kumenty uzasadniające przyjęty poziom cen dla danego zadania – brak parafowania przez podmiot ubiegający się o przyznanie pomocy wydruków ze stron internetowych, broszur, katalogów, i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osztor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ole tekstowe 2"/>
          <p:cNvSpPr/>
          <p:nvPr/>
        </p:nvSpPr>
        <p:spPr>
          <a:xfrm>
            <a:off x="431640" y="2708280"/>
            <a:ext cx="822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sztorys inwestorski – brak wszystkich elementów, o których mowa w rozporządzeniu Ministra Infrastruktury z dnia 18 maja 2004 r. w sprawie określenia metod i podstaw sporządzania kosztorysu inwestorskiego, obliczania planowanych kosztów prac projektowych oraz planowanych kosztów robót budowlanych określonych w programie funkcjonalno-użytkow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osztor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1547640" y="2266920"/>
            <a:ext cx="6228000" cy="3571920"/>
          </a:xfrm>
          <a:prstGeom prst="rect">
            <a:avLst/>
          </a:prstGeom>
          <a:ln w="0">
            <a:noFill/>
          </a:ln>
        </p:spPr>
      </p:pic>
      <p:sp>
        <p:nvSpPr>
          <p:cNvPr id="223" name="Łącznik prostoliniowy 2"/>
          <p:cNvSpPr/>
          <p:nvPr/>
        </p:nvSpPr>
        <p:spPr>
          <a:xfrm>
            <a:off x="1763640" y="234936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ole tekstowe 2"/>
          <p:cNvSpPr/>
          <p:nvPr/>
        </p:nvSpPr>
        <p:spPr>
          <a:xfrm>
            <a:off x="431640" y="270828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py lub szkice sytuacyjne oraz rysunki charakterystyczne dotyczące umiejscowienia operacji – załączone szkice nie pozwalają na identyfikację zakresu planowanych do wykonania prac oraz nie umożliwiają sprawdzenie przedmiaru robó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ormularze Z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ole tekstowe 2"/>
          <p:cNvSpPr/>
          <p:nvPr/>
        </p:nvSpPr>
        <p:spPr>
          <a:xfrm>
            <a:off x="420840" y="2349360"/>
            <a:ext cx="8221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ormularze rozliczeniowe Zakładu Ubezpieczeń Społecznych z ostatnich 12 miesięcy poprzedzających miesiąc złożenia wniosku o przyznanie pomocy (w przypadku, gdy podmioty ubiegające się o przyznanie pomocy prowadzących działalność gospodarczą, którzy w związku z realizacją operacji planują utworzenie / utrzymanie miejsc(a) pracy ) – brak podpisu wnioskodawcy oraz na przedłożonych deklaracjach ZUS brak pieczątek wpływu ZUS (w przypadku przedkładania w ZUS deklaracji „w wersji papierowej”) lub potwierdzenia wysłania/kodów kreskowych (w przypadku gdy Deklaracje rozliczeniowe składane są do ZUS drogą elektroniczną (np. za pośrednictwem systemu PŁATNIK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3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ormularze Z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187280" y="1378080"/>
            <a:ext cx="446436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De mini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podmiotu ubiegającego się o przyznanie pomocy o nie uzyskaniu pomocy de minimis – załącznik przedłożony wraz z wnioskiem o przyznanie pomocy nawet w sytuacji, gdy podmiot nie ubiega się o pomoc de mini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3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świadczenie 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o kwalifikowalności VAT - brak skreśleń w odpowiednich polach formularza oraz brak podstawy prawn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4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el oper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budowane cele operacji zawierające szczegółowe informacje, które powinny być uwzględnione w pkt 3 Opis operacji lub/i w biznespla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świadczenie 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4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525600" y="2495520"/>
            <a:ext cx="811692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odp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ole tekstowe 2"/>
          <p:cNvSpPr/>
          <p:nvPr/>
        </p:nvSpPr>
        <p:spPr>
          <a:xfrm>
            <a:off x="4316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daty sporządzenia biznesplanu i podpisu wnioskodaw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0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opisu wyposażenia i infrastruktury pomieszczeń (wykazanych w pkt. 2.2), jeśli podmiot ubiegający się o przyznanie pomocy dysponuje już odpowiednim lokalem na potrzeby prowadzenia działalnoś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777960" y="2421000"/>
            <a:ext cx="74865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a przewidywana data dokonania płatności ostatecznej. Zazwyczaj wnioskodawcy wpisują datę złożenia wniosku o płatn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6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6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1128600" y="2637000"/>
            <a:ext cx="68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ole tekstowe 2"/>
          <p:cNvSpPr/>
          <p:nvPr/>
        </p:nvSpPr>
        <p:spPr>
          <a:xfrm>
            <a:off x="431640" y="2708280"/>
            <a:ext cx="8221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Źródła finansowania operac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wystarczających źródeł finansowania kosztów całkowitych opera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źródeł finansowania kosztów prowadzenia działalności przez okres 2 lat od dokonania przez ARiMR płatności końcow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0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3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1258920" y="2300400"/>
            <a:ext cx="61437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2"/>
          <p:cNvSpPr/>
          <p:nvPr/>
        </p:nvSpPr>
        <p:spPr>
          <a:xfrm>
            <a:off x="431640" y="2295360"/>
            <a:ext cx="8221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stawienie przewidywanych wydatków niezbędnych do realizacji operacj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końcu zestawienia brak kosztów niekwalifikowalnych np. podatek V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ystarczających informacji uzasadniających konieczność poniesienia koszt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parametrów planowanych do poniesienia wydatk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. wydatki stanowiące podstawę do wyliczenia kwoty pomocy – błędne kw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1030320" y="2300400"/>
            <a:ext cx="6781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el oper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4190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budowane cele operacji zawierające szczegółowe informacje, które powinny być uwzględnione w pkt 3 Opis operacji lub/i w biznespla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2"/>
          <a:stretch/>
        </p:blipFill>
        <p:spPr>
          <a:xfrm>
            <a:off x="504720" y="2313000"/>
            <a:ext cx="80647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zycja: Realizacja operacji spowoduje utrzymanie miejsc pracy, Realizacja operacji spowoduje utworzenie miejsc pracy – błędne skreślenia i licz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6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1171440" y="2349360"/>
            <a:ext cx="68011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ole tekstowe 2"/>
          <p:cNvSpPr/>
          <p:nvPr/>
        </p:nvSpPr>
        <p:spPr>
          <a:xfrm>
            <a:off x="431640" y="2243160"/>
            <a:ext cx="8221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ek zysków i 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uzasadnienia wysokości przychodów w roku 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innych przychodach brak uwzględnienia kwoty pomocy zgodnie z zasadą proporcjonalności przychodów i koszt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zgodności założeń z wysokością kosztów uwzględnionych w tabel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łędne założenia dot. przychodów i kosztów w roku 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ystarczających informacji (założeń) uzasadniających wysokość poszczególnych kosztów w kolejnych lat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9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9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2"/>
          <a:stretch/>
        </p:blipFill>
        <p:spPr>
          <a:xfrm>
            <a:off x="2227320" y="1360440"/>
            <a:ext cx="45878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ole tekstowe 1"/>
          <p:cNvSpPr/>
          <p:nvPr/>
        </p:nvSpPr>
        <p:spPr>
          <a:xfrm>
            <a:off x="431640" y="765000"/>
            <a:ext cx="821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dmowa przyznania pomo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zostawienie wniosku bez rozpatrz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ole tekstowe 2"/>
          <p:cNvSpPr/>
          <p:nvPr/>
        </p:nvSpPr>
        <p:spPr>
          <a:xfrm>
            <a:off x="419040" y="1773360"/>
            <a:ext cx="822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uzupełnień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cja nie spełnia podmiotowych warunków udzielenia wsparcia opisanych w rozporządzeniu Ministra Rolnictwa i Rozwoju Wsi z dnia 24 września 2015 r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ostatecznej decyzji o pozwoleniu na budowę oraz brak rysunków umożliwiających weryfikację zakresu, miejsca i ilości planowanych do wykonania prac objętych wnioskiem o przyznanie pomo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ole tekstowe 1"/>
          <p:cNvSpPr/>
          <p:nvPr/>
        </p:nvSpPr>
        <p:spPr>
          <a:xfrm>
            <a:off x="431640" y="765000"/>
            <a:ext cx="821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dmowa przyznania pomo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zostawienie wniosku bez rozpatrz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ole tekstowe 2"/>
          <p:cNvSpPr/>
          <p:nvPr/>
        </p:nvSpPr>
        <p:spPr>
          <a:xfrm>
            <a:off x="419040" y="1773360"/>
            <a:ext cx="8221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terminowe uzupełnienie braków we wniosku o przyznanie pomocy spowodowane nadaniem pisma w sprawie usunięcia braków i oczywistych omyłek przesyłką nierejestrowan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ie z zasadami w przypadku usunięcia braków/złożenia wyjaśnień nadanych przesyłką rejestrowaną w polskiej placówce pocztowej operatora wyznaczonego w rozumieniu przepisów prawa pocztowego, o terminowości ich złożenia decyduje data stempla pocztowego, a w przypadku ich dostarczenia w innej formie, o terminowości złożenia decyduje data wpływu do Urzędu Marszałkowskiego Województwa Łódzkie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48000" y="3933720"/>
            <a:ext cx="3485880" cy="13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2"/>
          <p:cNvSpPr/>
          <p:nvPr/>
        </p:nvSpPr>
        <p:spPr>
          <a:xfrm>
            <a:off x="4190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e wyliczenie wartości początkowej dla wskaźnika: liczba utworzonych miejsc pr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979640" y="1682640"/>
            <a:ext cx="521964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7438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5375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pomo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ole tekstowe 2"/>
          <p:cNvSpPr/>
          <p:nvPr/>
        </p:nvSpPr>
        <p:spPr>
          <a:xfrm>
            <a:off x="4190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a wnioskowana kwota pomocy – podana z groszami lub zaokrąglona do gó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Ewidencja producen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ole tekstowe 2"/>
          <p:cNvSpPr/>
          <p:nvPr/>
        </p:nvSpPr>
        <p:spPr>
          <a:xfrm>
            <a:off x="4190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yzja o wpisie producenta do ewidencji producentów – brak pisemnej zgody rolnika lub  współposiadacza gospodarstwa rolnego na nadanie numeru identyfikacyjnego ich małżonkowi lub współposiadaczow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7:46:01Z</dcterms:modified>
  <cp:revision>901</cp:revision>
  <dc:subject/>
  <dc:title>Slajd 1</dc:title>
</cp:coreProperties>
</file>