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EFFD-3904-4EB7-A62F-A127B6B4B85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C7AD-8FA0-4351-8D33-AB0A9E9A077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41F7-4656-49EA-97B7-63EEDC06F81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A308-A8A5-43EE-96DA-8CDBBEFC750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F80D-5CDE-4E57-B4D4-042807F24B1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5F94-5107-46E1-809E-38D8F57113B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CD18-672C-4BC8-9810-235DA5CC3AD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43B1-551F-4A40-A1E9-4E9494FBAD1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08ED-D1EF-42C9-82EC-FA1441DAA73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68D9-687F-45B7-925E-106FF0D55D9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413D-D797-48F4-B3F0-9FA8BE2ADEF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8D02-7A8E-4C79-BB83-C8F8082CBF2F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218880"/>
            <a:ext cx="7058160" cy="37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NIOSEK O PŁATNOŚĆ W RAMACH PODDZIAŁANIA 19.2 „WSPARCIE NA WDRAŻANIE OPERACJI W RAMACH STRATEGII ROZWOJU LOKALNEGO KIEROWANEGO PRZEZ SPOŁECZNOŚĆ” – </a:t>
            </a:r>
            <a:r>
              <a:rPr b="1" i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NAJCZĘŚCIEJ POPEŁNIANE BŁĘDY</a:t>
            </a:r>
            <a:br>
              <a:rPr sz="2000"/>
            </a:br>
            <a:br>
              <a:rPr sz="18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5148360" y="4724280"/>
            <a:ext cx="3527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Grudzień 201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503280" y="3575160"/>
            <a:ext cx="449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az 4" descr=""/>
          <p:cNvPicPr/>
          <p:nvPr/>
        </p:nvPicPr>
        <p:blipFill>
          <a:blip r:embed="rId1"/>
          <a:stretch/>
        </p:blipFill>
        <p:spPr>
          <a:xfrm>
            <a:off x="503280" y="477828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ŚWIADCZENIA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ole tekstowe 2"/>
          <p:cNvSpPr/>
          <p:nvPr/>
        </p:nvSpPr>
        <p:spPr>
          <a:xfrm>
            <a:off x="468360" y="1969920"/>
            <a:ext cx="7970760" cy="9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podpisu beneficjenta, miejscowości oraz daty wypełnienia wniosku o płatnoś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89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ffffff"/>
                </a:solidFill>
                <a:latin typeface="Calibri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468360" y="1969920"/>
            <a:ext cx="7970760" cy="47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podpisanych umów o przyznanie pomocy w ramach poddziałania 19.2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koło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250 um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wyprzedzającego finansowania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2 zlecenia na łączną kwotę 2 136 044,37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33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ole tekstowe 2"/>
          <p:cNvSpPr/>
          <p:nvPr/>
        </p:nvSpPr>
        <p:spPr>
          <a:xfrm>
            <a:off x="468360" y="1969920"/>
            <a:ext cx="79707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złożonych wniosków o płatność pośrednią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1 wnios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płatności pośrednich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42 zlecenia na łączną kwotę 3 088 000,00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0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ole tekstowe 2"/>
          <p:cNvSpPr/>
          <p:nvPr/>
        </p:nvSpPr>
        <p:spPr>
          <a:xfrm>
            <a:off x="468360" y="1969920"/>
            <a:ext cx="79707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złożonych wniosków o płatność końcową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 wnios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płatności końcowych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1 zlecenie na kwotę 20 000,00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7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ole tekstowe 2"/>
          <p:cNvSpPr/>
          <p:nvPr/>
        </p:nvSpPr>
        <p:spPr>
          <a:xfrm>
            <a:off x="468360" y="1969920"/>
            <a:ext cx="797076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niosek o płatność składany na niewłaściwej wersji formularz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niosek o płatność składany na formularzu dotyczącym innego rodzaju opera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ersji elektronicznej wniosku o płatnoś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54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ole tekstowe 2"/>
          <p:cNvSpPr/>
          <p:nvPr/>
        </p:nvSpPr>
        <p:spPr>
          <a:xfrm>
            <a:off x="468360" y="1969920"/>
            <a:ext cx="7970760" cy="74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łędny numer identyfikacyjny beneficjenta (numer producenta nadany przez ARiM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numeru NIP lub numeru REGON beneficjent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adresu e-mail beneficjen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danych osoby uprawnionej do konta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61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SKAŹNIKI OSIĄGNIĘCIA CELU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468360" y="1969920"/>
            <a:ext cx="7970760" cy="74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miaru wskaźnika niezgodny z zapisami umowy o przyznanie pomoc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tość wskaźnika osiągnięta w wyniku realizacji operacji niezgodna ze stanem faktycznym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68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A O ZAŁĄCZNIK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68360" y="1969920"/>
            <a:ext cx="7970760" cy="88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deklaracji ZUS ZUA i ZUS DRA (załączniki obowiązkow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składania przez beneficjenta deklaracji zgłoszeniowej lub rozliczeniowej do Zakładu Ubezpieczeń Społecznych drogą elektroniczną za pośrednictwem systemu PŁATNIK - brak dokumentu „Informacja o wysyłce i potwierdzeniu” informującego o uzyskaniu odpowiedniego statusu w system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osobistego składania deklaracji do ZUS - brak podpisu płatnika składek (beneficjenta) na deklaracji oraz brak potwierdzenia wpływu deklaracji do Zakładu Ubezpieczeń Społeczn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75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A O ZAŁĄCZNIK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2"/>
          <p:cNvSpPr/>
          <p:nvPr/>
        </p:nvSpPr>
        <p:spPr>
          <a:xfrm>
            <a:off x="468360" y="1969920"/>
            <a:ext cx="7970760" cy="10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ek bankowy, na który mają być przekazane środki finansowego założony na beneficjenta wspólnie z małżonkiem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niedopuszczaln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świadczenie o numerze rachunku bankowego, na który mają być przekazane środki finansowe złożone w kopii – należy złożyć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oryginał dokument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numeru konta bankowego w systemie EBS ARiM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82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FRIII</cp:lastModifiedBy>
  <cp:lastPrinted>2013-10-21T07:28:16Z</cp:lastPrinted>
  <dcterms:modified xsi:type="dcterms:W3CDTF">2017-12-07T16:20:23Z</dcterms:modified>
  <cp:revision>851</cp:revision>
  <dc:subject/>
  <dc:title>Slajd 1</dc:title>
</cp:coreProperties>
</file>