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0.wmf" ContentType="image/x-wmf"/>
  <Override PartName="/ppt/media/image19.jpeg" ContentType="image/jpeg"/>
  <Override PartName="/ppt/media/image25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27.png" ContentType="image/png"/>
  <Override PartName="/ppt/media/image36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0.wmf" ContentType="image/x-wmf"/>
  <Override PartName="/ppt/media/image47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9.png" ContentType="image/png"/>
  <Override PartName="/ppt/media/image17.wmf" ContentType="image/x-wmf"/>
  <Override PartName="/ppt/media/image4.png" ContentType="image/png"/>
  <Override PartName="/ppt/media/image34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82B8-4B3D-4F20-9274-C159415B7536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95120"/>
            <a:ext cx="70581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ymbol zastępczy tytułu 8"/>
          <p:cNvSpPr/>
          <p:nvPr/>
        </p:nvSpPr>
        <p:spPr>
          <a:xfrm>
            <a:off x="714240" y="1000080"/>
            <a:ext cx="7786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1"/>
          <p:cNvSpPr/>
          <p:nvPr/>
        </p:nvSpPr>
        <p:spPr>
          <a:xfrm>
            <a:off x="5162400" y="6566040"/>
            <a:ext cx="35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4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rostokąt 4"/>
          <p:cNvSpPr/>
          <p:nvPr/>
        </p:nvSpPr>
        <p:spPr>
          <a:xfrm>
            <a:off x="704880" y="96516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 „ Wsparcie dla rozwoju lokalnego w ramach inicjatywy L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rostokąt 6"/>
          <p:cNvSpPr/>
          <p:nvPr/>
        </p:nvSpPr>
        <p:spPr>
          <a:xfrm>
            <a:off x="622440" y="2048040"/>
            <a:ext cx="7786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od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.2 Wsparcie na wdrażanie operacji w ramach strategii rozwoju lokalnego kierowanego przez społeczność w zakresie projektów grant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2"/>
          <p:cNvSpPr/>
          <p:nvPr/>
        </p:nvSpPr>
        <p:spPr>
          <a:xfrm>
            <a:off x="714240" y="3454560"/>
            <a:ext cx="3961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3"/>
          <p:cNvSpPr/>
          <p:nvPr/>
        </p:nvSpPr>
        <p:spPr>
          <a:xfrm>
            <a:off x="693720" y="4941720"/>
            <a:ext cx="3733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4"/>
          <p:cNvSpPr/>
          <p:nvPr/>
        </p:nvSpPr>
        <p:spPr>
          <a:xfrm>
            <a:off x="5027760" y="4991040"/>
            <a:ext cx="43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Grudzień 2017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. CZĘŚĆ OGÓ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2"/>
          <p:cNvSpPr/>
          <p:nvPr/>
        </p:nvSpPr>
        <p:spPr>
          <a:xfrm>
            <a:off x="428760" y="3643200"/>
            <a:ext cx="1550880" cy="179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e z listy rozwijanej (złożenie wniosku o płatność, korekta wniosku o płatność , wycofanie wniosku o płatność w częś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3"/>
          <p:cNvSpPr/>
          <p:nvPr/>
        </p:nvSpPr>
        <p:spPr>
          <a:xfrm>
            <a:off x="2286000" y="3643200"/>
            <a:ext cx="1285920" cy="16448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płatność pośrednia lub płatność końcow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4"/>
          <p:cNvSpPr/>
          <p:nvPr/>
        </p:nvSpPr>
        <p:spPr>
          <a:xfrm>
            <a:off x="3710160" y="3656160"/>
            <a:ext cx="1655640" cy="18507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 TAK lub NIE w zależności czy operacja jest dedykowana grupie/om defaworyzowanym, określonym w LS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rostokąt 5"/>
          <p:cNvSpPr/>
          <p:nvPr/>
        </p:nvSpPr>
        <p:spPr>
          <a:xfrm>
            <a:off x="5443560" y="3643200"/>
            <a:ext cx="1282680" cy="11541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pełniamy w przypadku zaznaczenia w powyższym puncie T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9880" cy="1552680"/>
          </a:xfrm>
          <a:prstGeom prst="rect">
            <a:avLst/>
          </a:prstGeom>
          <a:ln w="0">
            <a:noFill/>
          </a:ln>
        </p:spPr>
      </p:pic>
      <p:cxnSp>
        <p:nvCxnSpPr>
          <p:cNvPr id="190" name="Łącznik prosty ze strzałką 16"/>
          <p:cNvCxnSpPr/>
          <p:nvPr/>
        </p:nvCxnSpPr>
        <p:spPr>
          <a:xfrm flipV="1">
            <a:off x="1143000" y="1999800"/>
            <a:ext cx="52156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1" name="Łącznik prosty ze strzałką 19"/>
          <p:cNvCxnSpPr/>
          <p:nvPr/>
        </p:nvCxnSpPr>
        <p:spPr>
          <a:xfrm flipV="1">
            <a:off x="3112920" y="2214360"/>
            <a:ext cx="2959920" cy="14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2" name="Łącznik prosty ze strzałką 25"/>
          <p:cNvCxnSpPr/>
          <p:nvPr/>
        </p:nvCxnSpPr>
        <p:spPr>
          <a:xfrm flipV="1">
            <a:off x="5124960" y="2418840"/>
            <a:ext cx="95940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Łącznik prosty ze strzałką 28"/>
          <p:cNvCxnSpPr>
            <a:stCxn id="187" idx="0"/>
          </p:cNvCxnSpPr>
          <p:nvPr/>
        </p:nvCxnSpPr>
        <p:spPr>
          <a:xfrm flipV="1">
            <a:off x="6084720" y="2820600"/>
            <a:ext cx="316800" cy="822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4" name="Prostokąt 31"/>
          <p:cNvSpPr/>
          <p:nvPr/>
        </p:nvSpPr>
        <p:spPr>
          <a:xfrm>
            <a:off x="6875640" y="3251160"/>
            <a:ext cx="1697040" cy="255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z listy pomocniczej TAK/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K  - w przypadku, gdy we wniosku o przyznanie pomocy w polu zakres operacji wskazano pkt 5.3 zachowanie dziedzictwa lokalnego w tym wyposażenie mające na celu szerzenie lokalnej kultury i dziedzictwa lokalne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Łącznik prosty ze strzałką 33"/>
          <p:cNvCxnSpPr/>
          <p:nvPr/>
        </p:nvCxnSpPr>
        <p:spPr>
          <a:xfrm flipV="1">
            <a:off x="7643520" y="2999880"/>
            <a:ext cx="1080" cy="23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ole tekstowe 2"/>
          <p:cNvSpPr/>
          <p:nvPr/>
        </p:nvSpPr>
        <p:spPr>
          <a:xfrm>
            <a:off x="703440" y="1916280"/>
            <a:ext cx="7705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2"/>
          <p:cNvSpPr/>
          <p:nvPr/>
        </p:nvSpPr>
        <p:spPr>
          <a:xfrm>
            <a:off x="2049480" y="90792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1"/>
          <a:srcRect l="9" t="309" r="742" b="1326"/>
          <a:stretch/>
        </p:blipFill>
        <p:spPr>
          <a:xfrm>
            <a:off x="539640" y="1836720"/>
            <a:ext cx="799164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Prostokąt 3"/>
          <p:cNvSpPr/>
          <p:nvPr/>
        </p:nvSpPr>
        <p:spPr>
          <a:xfrm>
            <a:off x="539640" y="3933720"/>
            <a:ext cx="1728720" cy="1573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dokładną nazwę Beneficjenta (bez podawania adresu). Beneficjent może przystawić pieczęć nagłówkową. Treść pieczęci musi być czytel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5"/>
          <p:cNvSpPr/>
          <p:nvPr/>
        </p:nvSpPr>
        <p:spPr>
          <a:xfrm>
            <a:off x="4284720" y="3954600"/>
            <a:ext cx="1727280" cy="98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Identyfikacji Podatkowej Beneficjenta nadany przez Urząd Skarb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7"/>
          <p:cNvSpPr/>
          <p:nvPr/>
        </p:nvSpPr>
        <p:spPr>
          <a:xfrm>
            <a:off x="6227640" y="3954600"/>
            <a:ext cx="1519200" cy="765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oznaczenie cyfrowe REGON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Łącznik prosty ze strzałką 10"/>
          <p:cNvCxnSpPr/>
          <p:nvPr/>
        </p:nvCxnSpPr>
        <p:spPr>
          <a:xfrm flipV="1">
            <a:off x="1061640" y="3492000"/>
            <a:ext cx="50040" cy="44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Łącznik prosty ze strzałką 15"/>
          <p:cNvCxnSpPr/>
          <p:nvPr/>
        </p:nvCxnSpPr>
        <p:spPr>
          <a:xfrm flipV="1">
            <a:off x="3348000" y="2420640"/>
            <a:ext cx="72000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Łącznik prosty ze strzałką 17"/>
          <p:cNvCxnSpPr/>
          <p:nvPr/>
        </p:nvCxnSpPr>
        <p:spPr>
          <a:xfrm flipV="1">
            <a:off x="4642920" y="2864880"/>
            <a:ext cx="259560" cy="10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6" name="Łącznik prosty ze strzałką 23"/>
          <p:cNvCxnSpPr/>
          <p:nvPr/>
        </p:nvCxnSpPr>
        <p:spPr>
          <a:xfrm flipH="1" flipV="1">
            <a:off x="6587640" y="3377520"/>
            <a:ext cx="21672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208" name="Prostokąt 1"/>
          <p:cNvSpPr/>
          <p:nvPr/>
        </p:nvSpPr>
        <p:spPr>
          <a:xfrm>
            <a:off x="2484360" y="3860640"/>
            <a:ext cx="1582920" cy="1830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przez ARiMR. Dane identyfikacyjne Beneficjenta we wniosku powinny być zgodne z danymi , jakie zostały podane we wniosku o wpis do ewidencji producentów (E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503280" y="1755720"/>
            <a:ext cx="8088120" cy="1766880"/>
          </a:xfrm>
          <a:prstGeom prst="rect">
            <a:avLst/>
          </a:prstGeom>
          <a:ln w="0">
            <a:noFill/>
          </a:ln>
        </p:spPr>
      </p:pic>
      <p:sp>
        <p:nvSpPr>
          <p:cNvPr id="212" name="Prostokąt 1"/>
          <p:cNvSpPr/>
          <p:nvPr/>
        </p:nvSpPr>
        <p:spPr>
          <a:xfrm>
            <a:off x="2121840" y="82548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2"/>
          <p:cNvSpPr/>
          <p:nvPr/>
        </p:nvSpPr>
        <p:spPr>
          <a:xfrm>
            <a:off x="1763640" y="3933720"/>
            <a:ext cx="5112000" cy="1295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e we wniosku powinny być zgodne z danymi zawartymi w umowie. W przypadku zmiany danych Beneficjenta zawartych w umowie, Beneficjent jest zobowiązany do niezwłocznego poinformowania UM o zaistniałych zmian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dokładny adres siedziby, numery telefonu i faksu (wraz z numerem kierunkowym), adres e-mail oraz adres strony internetowej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Łącznik prosty ze strzałką 5"/>
          <p:cNvCxnSpPr/>
          <p:nvPr/>
        </p:nvCxnSpPr>
        <p:spPr>
          <a:xfrm flipV="1">
            <a:off x="2987280" y="2851920"/>
            <a:ext cx="415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15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"/>
          <p:cNvPicPr/>
          <p:nvPr/>
        </p:nvPicPr>
        <p:blipFill>
          <a:blip r:embed="rId1"/>
          <a:srcRect l="3847" t="-864" r="1973" b="2372"/>
          <a:stretch/>
        </p:blipFill>
        <p:spPr>
          <a:xfrm>
            <a:off x="733320" y="1757520"/>
            <a:ext cx="7488360" cy="1763640"/>
          </a:xfrm>
          <a:prstGeom prst="rect">
            <a:avLst/>
          </a:prstGeom>
          <a:ln w="0">
            <a:noFill/>
          </a:ln>
        </p:spPr>
      </p:pic>
      <p:sp>
        <p:nvSpPr>
          <p:cNvPr id="220" name="Prostokąt 1"/>
          <p:cNvSpPr/>
          <p:nvPr/>
        </p:nvSpPr>
        <p:spPr>
          <a:xfrm>
            <a:off x="1871640" y="4292640"/>
            <a:ext cx="518472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pełnić, jeśli adres do korespondencji jest inny niż wskazany w polu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wskazany adres będzie przesyłana korespondencja pomiędzy UM a Beneficjentem. Jeżeli Beneficjent wskazał pełnomocnika i chce, aby korespondencja była wysyłana a na jego adres, należy wpisać adres pełnomocnika w tym pol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Łącznik prosty ze strzałką 3"/>
          <p:cNvCxnSpPr/>
          <p:nvPr/>
        </p:nvCxnSpPr>
        <p:spPr>
          <a:xfrm flipH="1" flipV="1">
            <a:off x="3563280" y="3520440"/>
            <a:ext cx="361080" cy="77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22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1"/>
          <a:stretch/>
        </p:blipFill>
        <p:spPr>
          <a:xfrm>
            <a:off x="560520" y="1673280"/>
            <a:ext cx="8051760" cy="2181240"/>
          </a:xfrm>
          <a:prstGeom prst="rect">
            <a:avLst/>
          </a:prstGeom>
          <a:ln w="0">
            <a:noFill/>
          </a:ln>
        </p:spPr>
      </p:pic>
      <p:sp>
        <p:nvSpPr>
          <p:cNvPr id="226" name="Prostokąt 1"/>
          <p:cNvSpPr/>
          <p:nvPr/>
        </p:nvSpPr>
        <p:spPr>
          <a:xfrm>
            <a:off x="1619280" y="4292640"/>
            <a:ext cx="5616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 należy wypełnić wyłącznie w sytuacji, gdy w imieniu Beneficjenta występuje pełnomocnik, któremu Beneficjent udzielił stosownego pełnomocnictwa. Załączane do wniosku pełnomocnictwo, powinno zawierać potwierdzenie własnoręczności podpisów dokonane przez notariusz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Łącznik prosty ze strzałką 4"/>
          <p:cNvCxnSpPr/>
          <p:nvPr/>
        </p:nvCxnSpPr>
        <p:spPr>
          <a:xfrm flipH="1" flipV="1">
            <a:off x="2986920" y="1990440"/>
            <a:ext cx="648360" cy="230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8" name="Prostokąt 10"/>
          <p:cNvSpPr/>
          <p:nvPr/>
        </p:nvSpPr>
        <p:spPr>
          <a:xfrm>
            <a:off x="2044800" y="836640"/>
            <a:ext cx="51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"/>
          <p:cNvPicPr/>
          <p:nvPr/>
        </p:nvPicPr>
        <p:blipFill>
          <a:blip r:embed="rId1"/>
          <a:stretch/>
        </p:blipFill>
        <p:spPr>
          <a:xfrm>
            <a:off x="423720" y="1771560"/>
            <a:ext cx="8167680" cy="1104840"/>
          </a:xfrm>
          <a:prstGeom prst="rect">
            <a:avLst/>
          </a:prstGeom>
          <a:ln w="0">
            <a:noFill/>
          </a:ln>
        </p:spPr>
      </p:pic>
      <p:sp>
        <p:nvSpPr>
          <p:cNvPr id="233" name="Prostokąt 1"/>
          <p:cNvSpPr/>
          <p:nvPr/>
        </p:nvSpPr>
        <p:spPr>
          <a:xfrm>
            <a:off x="2209320" y="83664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kąt 3"/>
          <p:cNvSpPr/>
          <p:nvPr/>
        </p:nvSpPr>
        <p:spPr>
          <a:xfrm>
            <a:off x="2050920" y="3860640"/>
            <a:ext cx="4897440" cy="863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sprawach dotyczących operacji można wskazać osobę uprawnioną do kontaktu z UM, poprzez wpisanie we wniosku danych identyfikujących tę osobę. Osoba uprawniona do kontaktu będzie upoważniona jedynie do kontaktów telefonicznych i mailow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Łącznik prosty ze strzałką 5"/>
          <p:cNvCxnSpPr/>
          <p:nvPr/>
        </p:nvCxnSpPr>
        <p:spPr>
          <a:xfrm flipH="1" flipV="1">
            <a:off x="3171240" y="2845800"/>
            <a:ext cx="608760" cy="10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rostokąt 1"/>
          <p:cNvSpPr/>
          <p:nvPr/>
        </p:nvSpPr>
        <p:spPr>
          <a:xfrm>
            <a:off x="1900080" y="88092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I. DANE Z UMOWY O PRZYZNANIU PO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528480" y="1679400"/>
            <a:ext cx="8062920" cy="1695600"/>
          </a:xfrm>
          <a:prstGeom prst="rect">
            <a:avLst/>
          </a:prstGeom>
          <a:ln w="0">
            <a:noFill/>
          </a:ln>
        </p:spPr>
      </p:pic>
      <p:sp>
        <p:nvSpPr>
          <p:cNvPr id="241" name="Prostokąt 3"/>
          <p:cNvSpPr/>
          <p:nvPr/>
        </p:nvSpPr>
        <p:spPr>
          <a:xfrm>
            <a:off x="528480" y="3716280"/>
            <a:ext cx="2643480" cy="86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umowy, w ramach której składany jest wniosek oraz datę zawarcia umowy o przyznaniu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Łącznik prosty ze strzałką 5"/>
          <p:cNvCxnSpPr/>
          <p:nvPr/>
        </p:nvCxnSpPr>
        <p:spPr>
          <a:xfrm flipV="1">
            <a:off x="1332000" y="2275920"/>
            <a:ext cx="15120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3" name="Łącznik prosty ze strzałką 7"/>
          <p:cNvCxnSpPr/>
          <p:nvPr/>
        </p:nvCxnSpPr>
        <p:spPr>
          <a:xfrm flipV="1">
            <a:off x="1403280" y="2526480"/>
            <a:ext cx="1440360" cy="11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Prostokąt 9"/>
          <p:cNvSpPr/>
          <p:nvPr/>
        </p:nvSpPr>
        <p:spPr>
          <a:xfrm>
            <a:off x="3548160" y="3716280"/>
            <a:ext cx="2160360" cy="1225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ą dla całej operacji, zgodnie z umową uwzględniając ewentualne zmiany kwoty pomocy, wynikające z aneks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rostokąt 10"/>
          <p:cNvSpPr/>
          <p:nvPr/>
        </p:nvSpPr>
        <p:spPr>
          <a:xfrm>
            <a:off x="6084720" y="3716280"/>
            <a:ext cx="21384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a dla etapu operacji, zgodnie z umową uwzględniając ewentualne zmiany kwoty pomocy dla etapu , wynikające z zawartych aneksów. W przypadku operacji jednoetapowych, kwota z pola 4 równa jest kwocie z pola 5 (kwota z pola 5 nie może być wyższa od kwoty z pola 4)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Łącznik prosty ze strzałką 12"/>
          <p:cNvCxnSpPr/>
          <p:nvPr/>
        </p:nvCxnSpPr>
        <p:spPr>
          <a:xfrm flipV="1">
            <a:off x="4356000" y="2851920"/>
            <a:ext cx="93744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Łącznik prosty ze strzałką 14"/>
          <p:cNvCxnSpPr/>
          <p:nvPr/>
        </p:nvCxnSpPr>
        <p:spPr>
          <a:xfrm flipH="1" flipV="1">
            <a:off x="7402320" y="3212640"/>
            <a:ext cx="3448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"/>
          <p:cNvPicPr/>
          <p:nvPr/>
        </p:nvPicPr>
        <p:blipFill>
          <a:blip r:embed="rId1"/>
          <a:srcRect l="-752" t="-42943" r="757" b="56432"/>
          <a:stretch/>
        </p:blipFill>
        <p:spPr>
          <a:xfrm>
            <a:off x="468360" y="1197000"/>
            <a:ext cx="8028000" cy="1152360"/>
          </a:xfrm>
          <a:prstGeom prst="rect">
            <a:avLst/>
          </a:prstGeom>
          <a:ln w="0">
            <a:noFill/>
          </a:ln>
        </p:spPr>
      </p:pic>
      <p:sp>
        <p:nvSpPr>
          <p:cNvPr id="251" name="Prostokąt 3"/>
          <p:cNvSpPr/>
          <p:nvPr/>
        </p:nvSpPr>
        <p:spPr>
          <a:xfrm>
            <a:off x="1763640" y="87156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rostokąt 5"/>
          <p:cNvSpPr/>
          <p:nvPr/>
        </p:nvSpPr>
        <p:spPr>
          <a:xfrm>
            <a:off x="826920" y="3429000"/>
            <a:ext cx="561672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okres, za jaki składany jest wniosek w formacie: dzień-miesiąc-r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o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” (w przypadku wniosku o płatność pośrednią jak i wniosku o płatność końcową) należy wpisać datę zawarcia umowy, a 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.” – faktyczny dzień złożenia wniosku w UM albo ostatni dzień terminu złożenia wniosku przewidzianego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Łącznik prosty ze strzałką 11"/>
          <p:cNvCxnSpPr/>
          <p:nvPr/>
        </p:nvCxnSpPr>
        <p:spPr>
          <a:xfrm flipV="1">
            <a:off x="2793600" y="2561400"/>
            <a:ext cx="75636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2"/>
          <p:cNvSpPr/>
          <p:nvPr/>
        </p:nvSpPr>
        <p:spPr>
          <a:xfrm>
            <a:off x="679320" y="16606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1"/>
          <p:cNvSpPr/>
          <p:nvPr/>
        </p:nvSpPr>
        <p:spPr>
          <a:xfrm>
            <a:off x="749160" y="2852640"/>
            <a:ext cx="3391200" cy="259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rzepisać kwotę z części wniosku 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i 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 wg rozliczenia 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, 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tóra powinna być równa z sumą kwot widniejących w częściach wniosku wypełnianych odrębnie dla poszczególnych Grantobiorców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li 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ą V. wykazem faktur lub dokumentów …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lumna 1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(w zł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ota określona w tym pol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tanowi podstawę do ustalenia wnioskowanej kwoty pomoc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skazywanej w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 polu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rostokąt 6"/>
          <p:cNvSpPr/>
          <p:nvPr/>
        </p:nvSpPr>
        <p:spPr>
          <a:xfrm>
            <a:off x="2050920" y="86184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1"/>
          <a:srcRect l="0" t="0" r="0" b="4708"/>
          <a:stretch/>
        </p:blipFill>
        <p:spPr>
          <a:xfrm>
            <a:off x="611280" y="1755720"/>
            <a:ext cx="7842240" cy="504720"/>
          </a:xfrm>
          <a:prstGeom prst="rect">
            <a:avLst/>
          </a:prstGeom>
          <a:ln w="0">
            <a:noFill/>
          </a:ln>
        </p:spPr>
      </p:pic>
      <p:sp>
        <p:nvSpPr>
          <p:cNvPr id="260" name="Prostokąt 2"/>
          <p:cNvSpPr/>
          <p:nvPr/>
        </p:nvSpPr>
        <p:spPr>
          <a:xfrm>
            <a:off x="4743360" y="2771640"/>
            <a:ext cx="3402000" cy="2673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widniejącą w części wniosk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olumna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wota grantu wg rozliczenia (w zł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,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iersz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ZEM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nie powinna być wyższa od kwot widniejących w polach: sekcja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V. pkt 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ałkowita wartość zadań zrealizowanych w danym etapie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oraz sekcj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III.  pkt 5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pomocy z umowy przyznana dla danego etapu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obejmuje zarówno wkład EFRROW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63.63 %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 i wymagany krajowy wkład środków publicznych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36,37%)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Łącznik prosty ze strzałką 6"/>
          <p:cNvCxnSpPr/>
          <p:nvPr/>
        </p:nvCxnSpPr>
        <p:spPr>
          <a:xfrm flipV="1">
            <a:off x="2987640" y="1915560"/>
            <a:ext cx="2232720" cy="9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Łącznik prosty ze strzałką 8"/>
          <p:cNvCxnSpPr/>
          <p:nvPr/>
        </p:nvCxnSpPr>
        <p:spPr>
          <a:xfrm flipV="1">
            <a:off x="6227640" y="2260080"/>
            <a:ext cx="21672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26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3"/>
          <a:srcRect l="0" t="0" r="0" b="41243"/>
          <a:stretch/>
        </p:blipFill>
        <p:spPr>
          <a:xfrm>
            <a:off x="611280" y="1700280"/>
            <a:ext cx="7921440" cy="504720"/>
          </a:xfrm>
          <a:prstGeom prst="rect">
            <a:avLst/>
          </a:prstGeom>
          <a:ln w="0">
            <a:noFill/>
          </a:ln>
        </p:spPr>
      </p:pic>
      <p:sp>
        <p:nvSpPr>
          <p:cNvPr id="270" name="Prostokąt 1"/>
          <p:cNvSpPr/>
          <p:nvPr/>
        </p:nvSpPr>
        <p:spPr>
          <a:xfrm>
            <a:off x="468360" y="2744640"/>
            <a:ext cx="2703600" cy="306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 rozwijalnej listy należy wybrać odpowiedni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przypadku, gdy w ramach danej operacji udzielono grantów jednostkom sektora finansów publiczny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przypadku, gdy w ramach danej operacji nie udzielono grantów jednostkom sektora finansów publicz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jednak pamiętać, że pomoc jest wypłacana jeżeli suma grantów udzielonych jednostkom sektora finansów publicznych w ramach danej operacji nie przekracza 20 % kwoty środków przyznanych na tą operacj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Łącznik prosty ze strzałką 3"/>
          <p:cNvCxnSpPr/>
          <p:nvPr/>
        </p:nvCxnSpPr>
        <p:spPr>
          <a:xfrm flipV="1">
            <a:off x="2339640" y="1773000"/>
            <a:ext cx="2664360" cy="9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Prostokąt 5"/>
          <p:cNvSpPr/>
          <p:nvPr/>
        </p:nvSpPr>
        <p:spPr>
          <a:xfrm>
            <a:off x="3500280" y="2349360"/>
            <a:ext cx="5091120" cy="34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 wypełniane w przypadku, gdy zaznaczono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w polu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jednoetapowe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kwotę widniejącą w części wniosku VI. Zestawienie rzeczowo – 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dwuetapow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pośredni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pomocy określonej w umowie 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grantów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 drugi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końcow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zadań z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 ramach etapu pośredni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Łącznik prosty ze strzałką 8"/>
          <p:cNvCxnSpPr/>
          <p:nvPr/>
        </p:nvCxnSpPr>
        <p:spPr>
          <a:xfrm flipV="1">
            <a:off x="5651280" y="2153880"/>
            <a:ext cx="1080" cy="1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74" name="Picture 10" descr=""/>
          <p:cNvPicPr/>
          <p:nvPr/>
        </p:nvPicPr>
        <p:blipFill>
          <a:blip r:embed="rId4"/>
          <a:stretch/>
        </p:blipFill>
        <p:spPr>
          <a:xfrm>
            <a:off x="4856040" y="5907240"/>
            <a:ext cx="373536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2"/>
          <p:cNvSpPr/>
          <p:nvPr/>
        </p:nvSpPr>
        <p:spPr>
          <a:xfrm>
            <a:off x="493560" y="1700280"/>
            <a:ext cx="797112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den projekt grantowy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oże przekroczyć 30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artość jednego udzielonego grantu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powinna być niższa niż 5 tys. złotych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an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ższa niż 5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planowane do poniesienia przez grantobiorcę nie mogą być kosztami inwestycji polegającej na budowie albo przebudowie liniowych obiektów budowlanych w części dotyczącej realizacji odcinków zlokalizowanych poza obszarem wiejskim objętym LS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ramach rozliczenia nie będą mogły podlegać refundacji koszty kwalifikowalne poniesione przed dniem, w którym została zawarta umowa o przyznaniu pomocy na projekt grantow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umowy o powierzenie grantu będą mogły podlegać refundacji, jeśli zostały podpisane po dniu zawarcia umowy o przyznaniu pomocy na projekt grantowy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cząstkowe poszczególnych grantów będą mogły podlegać refundacji, jeśli zostały poniesione przez Grantobiorców po zawarciu z nimi umów o powierzenie grant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powinien dokonywać płatności na rzecz Grantobiorców wyłącznie w formie bezgotówkowej – płatności dokonane gotówkowo nie będą podlegały refundacj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upa 1"/>
          <p:cNvGrpSpPr/>
          <p:nvPr/>
        </p:nvGrpSpPr>
        <p:grpSpPr>
          <a:xfrm>
            <a:off x="468360" y="3178080"/>
            <a:ext cx="7862760" cy="936720"/>
            <a:chOff x="468360" y="3178080"/>
            <a:chExt cx="7862760" cy="936720"/>
          </a:xfrm>
        </p:grpSpPr>
        <p:sp>
          <p:nvSpPr>
            <p:cNvPr id="130" name="Prostokąt 1"/>
            <p:cNvSpPr/>
            <p:nvPr/>
          </p:nvSpPr>
          <p:spPr>
            <a:xfrm>
              <a:off x="468360" y="3178080"/>
              <a:ext cx="7862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Prostokąt 2"/>
            <p:cNvSpPr/>
            <p:nvPr/>
          </p:nvSpPr>
          <p:spPr>
            <a:xfrm>
              <a:off x="468360" y="3745080"/>
              <a:ext cx="7106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"/>
          <p:cNvPicPr/>
          <p:nvPr/>
        </p:nvPicPr>
        <p:blipFill>
          <a:blip r:embed="rId1"/>
          <a:srcRect l="0" t="2919" r="0" b="62088"/>
          <a:stretch/>
        </p:blipFill>
        <p:spPr>
          <a:xfrm>
            <a:off x="463680" y="1800360"/>
            <a:ext cx="8127720" cy="323640"/>
          </a:xfrm>
          <a:prstGeom prst="rect">
            <a:avLst/>
          </a:prstGeom>
          <a:ln w="0">
            <a:noFill/>
          </a:ln>
        </p:spPr>
      </p:pic>
      <p:sp>
        <p:nvSpPr>
          <p:cNvPr id="278" name="Prostokąt 1"/>
          <p:cNvSpPr/>
          <p:nvPr/>
        </p:nvSpPr>
        <p:spPr>
          <a:xfrm>
            <a:off x="647640" y="2492280"/>
            <a:ext cx="7759800" cy="31989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operacj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ednoetapowych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mianowniku ww. wzoru należy uwzględnić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wuetapowy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pośredni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pomocy widniejącą w umow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końcow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faktyczn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Łącznik prosty ze strzałką 3"/>
          <p:cNvCxnSpPr/>
          <p:nvPr/>
        </p:nvCxnSpPr>
        <p:spPr>
          <a:xfrm flipV="1">
            <a:off x="5435280" y="1961280"/>
            <a:ext cx="1152720" cy="53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280" name=""/>
          <p:cNvGraphicFramePr/>
          <p:nvPr/>
        </p:nvGraphicFramePr>
        <p:xfrm>
          <a:off x="2195640" y="2637000"/>
          <a:ext cx="4105080" cy="934920"/>
        </p:xfrm>
        <a:graphic>
          <a:graphicData uri="http://schemas.openxmlformats.org/drawingml/2006/table">
            <a:tbl>
              <a:tblPr/>
              <a:tblGrid>
                <a:gridCol w="1641240"/>
                <a:gridCol w="217440"/>
                <a:gridCol w="1641600"/>
                <a:gridCol w="189000"/>
                <a:gridCol w="415800"/>
              </a:tblGrid>
              <a:tr h="411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nt kwoty pomocy przypadający na granty realizowane przez JSFP </a:t>
                      </a:r>
                      <a:br>
                        <a:rPr sz="900"/>
                      </a:b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ramach całej operacj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e 4.1. kwota pomocy przypadająca na granty realizowane przez JSF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nioskowana kwota pomocy całej operacji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8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"/>
          <p:cNvPicPr/>
          <p:nvPr/>
        </p:nvPicPr>
        <p:blipFill>
          <a:blip r:embed="rId1"/>
          <a:stretch/>
        </p:blipFill>
        <p:spPr>
          <a:xfrm>
            <a:off x="507960" y="1957320"/>
            <a:ext cx="8066160" cy="539640"/>
          </a:xfrm>
          <a:prstGeom prst="rect">
            <a:avLst/>
          </a:prstGeom>
          <a:ln w="0">
            <a:noFill/>
          </a:ln>
        </p:spPr>
      </p:pic>
      <p:sp>
        <p:nvSpPr>
          <p:cNvPr id="286" name="Prostokąt 1"/>
          <p:cNvSpPr/>
          <p:nvPr/>
        </p:nvSpPr>
        <p:spPr>
          <a:xfrm>
            <a:off x="950760" y="2781360"/>
            <a:ext cx="6796080" cy="28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odsetek bankowych naliczonych przez bank od przekazanego Beneficjentowi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dsetki naliczone na wyodrębnionym dla wyprzedzającego finansowania rachunku bankowym, od dnia wpływu wyprzedzającego finansowania na ten rachunek, Beneficjent wykazuje we wniosku o płatność, ale nie pomniejsza kwoty pomocy objętej wnioskiem o płatnoś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może dokonać zwrotu kwoty odsetek narosłych na wyodrębnionym dla wyprzedzającego finansowania rachunku bankowym na rachunek ARiMR wskazany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tomiast jeśli Beneficjent nie dokona zwrotu odsetek wówczas wraz z wystawionym zleceniem płatności SW wystawia zgłoszenie należności ZW-1 odpowiadające kwocie odsetek bankowych. W przypadku zwrócenia wcześniej przez Beneficjenta odsetek również powinno zostać wystawione zgłoszenie należności ZW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 podstawie tego dokumentu ARiMR dokonuje pomniejszenia kwoty do wypła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Łącznik prosty ze strzałką 3"/>
          <p:cNvCxnSpPr>
            <a:stCxn id="286" idx="0"/>
          </p:cNvCxnSpPr>
          <p:nvPr/>
        </p:nvCxnSpPr>
        <p:spPr>
          <a:xfrm flipV="1">
            <a:off x="4347720" y="2133000"/>
            <a:ext cx="8420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8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ole tekstowe 1"/>
          <p:cNvSpPr/>
          <p:nvPr/>
        </p:nvSpPr>
        <p:spPr>
          <a:xfrm>
            <a:off x="539640" y="549360"/>
            <a:ext cx="7848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7547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rostokąt 1"/>
          <p:cNvSpPr/>
          <p:nvPr/>
        </p:nvSpPr>
        <p:spPr>
          <a:xfrm>
            <a:off x="468360" y="476280"/>
            <a:ext cx="77817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rostokąt 3"/>
          <p:cNvSpPr/>
          <p:nvPr/>
        </p:nvSpPr>
        <p:spPr>
          <a:xfrm>
            <a:off x="1187280" y="4005360"/>
            <a:ext cx="6769440" cy="718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ą część wniosku wypełnia się dla wszystkich grantów przedstawianych do rozliczenia w ramach wniosku i zrealizowanych przez danych Grantobiorcó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, gdy zawarto więcej niż jeden aneks punkt 1.1.2 należy powielić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8072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rostokąt 1"/>
          <p:cNvSpPr/>
          <p:nvPr/>
        </p:nvSpPr>
        <p:spPr>
          <a:xfrm>
            <a:off x="843120" y="4567320"/>
            <a:ext cx="7473960" cy="1253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wypełnianiu tabeli należy zwrócić uwagę, ż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y oznaczone kolorem szarym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 w oparciu o dokumenty pozyskane przez Beneficjenta (LGD) od Grantobiorc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a 7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a jest na podstawie informacji z załącznika nr 5 do wniosku o przyznanie pomocy (szczegółowe opisy poszczególnych zadań wchodzących w skład operacji wraz z wykazem planowanych do poniesienia przez Grantobiorców kosztów uzasadniających planowane kwoty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tomiast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pozostałe kolumn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w oparciu 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kumenty potwierdzające poniesienie kosztów kwalifikowalnych przez Beneficjenta na rzecz Grantobiorców (umowy o powierzenie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21520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ole tekstowe 2"/>
          <p:cNvSpPr/>
          <p:nvPr/>
        </p:nvSpPr>
        <p:spPr>
          <a:xfrm>
            <a:off x="539640" y="1628640"/>
            <a:ext cx="789948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 wypełnia się dla wszystkich grantów przedstawianych do rozliczenia w ramach wniosk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nagłówku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a rzeczowo–finansowego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należy wybrać z listy rozwijanej etap, w ramach którego składany jest wniosek (płatność pośrednia/płatność końcowa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Pozycje w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u rzeczowo–finansowym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zawierające dane finansowe należy wypełnić z dokładnością do dwóch miejsc po przecink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wypełniane jest na podstawie danych wynikających z załącznika do umowy (kolumny zaznaczone w nagłówkach szarym kolorem) oraz danych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ynikających z dokumentów potwierdzających poniesienie kosztów kwalifikowalnych w ramach rozliczanego etapu/operacji (pozostałe kolumny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ole tekstowe 2"/>
          <p:cNvSpPr/>
          <p:nvPr/>
        </p:nvSpPr>
        <p:spPr>
          <a:xfrm>
            <a:off x="539640" y="1989000"/>
            <a:ext cx="789948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07264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ole tekstowe 2"/>
          <p:cNvSpPr/>
          <p:nvPr/>
        </p:nvSpPr>
        <p:spPr>
          <a:xfrm>
            <a:off x="324000" y="1736640"/>
            <a:ext cx="849600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rostokąt 1"/>
          <p:cNvSpPr/>
          <p:nvPr/>
        </p:nvSpPr>
        <p:spPr>
          <a:xfrm>
            <a:off x="1258920" y="692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rostokąt 2"/>
          <p:cNvSpPr/>
          <p:nvPr/>
        </p:nvSpPr>
        <p:spPr>
          <a:xfrm>
            <a:off x="611280" y="1773360"/>
            <a:ext cx="7848360" cy="38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Cel operacji będzie mógł zostać uznany za osiągnięty, o ile zostaną osiągnięte w wyniku realizacji operacji wartości wskaźników określone w umowi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a w umowie określon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tylko dla jednego wskaźnika albo dwó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 osiągnięc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85% wartości wskaźnika/ każdego ze wskaźników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kreślonego(-ych)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y w umowie określone wartości dl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trze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, iż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nie więcej niż jednego wskaźnika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a osiągnięta na poziom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7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a wartośc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ozostały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y osiągnięte na poziom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niejszym niż 8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wskaźnika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Liczba osób korzystających ze wspartych usług / infrastruktury z zakresu technologii informacyjno- komunikacyjnych,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go wartość należy obliczyć jako liczbę mieszkańców obszaru, na którym jest realizowana operacja (gmina/miejscowość/kilka miejscowości – zależności od tego, jaki jest potencjalny obszar oddziaływania efektów realizacji operacji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upa 2"/>
          <p:cNvGrpSpPr/>
          <p:nvPr/>
        </p:nvGrpSpPr>
        <p:grpSpPr>
          <a:xfrm>
            <a:off x="841320" y="3178080"/>
            <a:ext cx="7489800" cy="1586160"/>
            <a:chOff x="841320" y="3178080"/>
            <a:chExt cx="7489800" cy="1586160"/>
          </a:xfrm>
        </p:grpSpPr>
        <p:grpSp>
          <p:nvGrpSpPr>
            <p:cNvPr id="135" name="Grupa 1"/>
            <p:cNvGrpSpPr/>
            <p:nvPr/>
          </p:nvGrpSpPr>
          <p:grpSpPr>
            <a:xfrm>
              <a:off x="841320" y="3178080"/>
              <a:ext cx="7489800" cy="937080"/>
              <a:chOff x="841320" y="3178080"/>
              <a:chExt cx="7489800" cy="937080"/>
            </a:xfrm>
          </p:grpSpPr>
          <p:sp>
            <p:nvSpPr>
              <p:cNvPr id="136" name="Prostokąt 1"/>
              <p:cNvSpPr/>
              <p:nvPr/>
            </p:nvSpPr>
            <p:spPr>
              <a:xfrm>
                <a:off x="841320" y="3178080"/>
                <a:ext cx="74898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Prostokąt 2"/>
              <p:cNvSpPr/>
              <p:nvPr/>
            </p:nvSpPr>
            <p:spPr>
              <a:xfrm>
                <a:off x="841320" y="3745080"/>
                <a:ext cx="67690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Prostokąt 3"/>
            <p:cNvSpPr/>
            <p:nvPr/>
          </p:nvSpPr>
          <p:spPr>
            <a:xfrm>
              <a:off x="865080" y="4394880"/>
              <a:ext cx="68961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ostokąt 1"/>
          <p:cNvSpPr/>
          <p:nvPr/>
        </p:nvSpPr>
        <p:spPr>
          <a:xfrm>
            <a:off x="1116000" y="1989000"/>
            <a:ext cx="6769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ek o płatność (W-2_19.2_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Instrukcja wypełniania wniosku o płatność (IW-2_19.2_ 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kumenty dostępne są na stronie internetowej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www.lodzkie.pl/prow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zakład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Formularze wniosków o płatność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ole tekstowe 2"/>
          <p:cNvSpPr/>
          <p:nvPr/>
        </p:nvSpPr>
        <p:spPr>
          <a:xfrm>
            <a:off x="539640" y="1736640"/>
            <a:ext cx="805176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8360" y="1736640"/>
            <a:ext cx="8123040" cy="1619280"/>
            <a:chOff x="468360" y="1736640"/>
            <a:chExt cx="8123040" cy="1619280"/>
          </a:xfrm>
        </p:grpSpPr>
        <p:sp>
          <p:nvSpPr>
            <p:cNvPr id="328" name="AutoShape 9"/>
            <p:cNvSpPr/>
            <p:nvPr/>
          </p:nvSpPr>
          <p:spPr>
            <a:xfrm>
              <a:off x="468360" y="1736640"/>
              <a:ext cx="8123040" cy="16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11" descr=""/>
            <p:cNvPicPr/>
            <p:nvPr/>
          </p:nvPicPr>
          <p:blipFill>
            <a:blip r:embed="rId1"/>
            <a:srcRect l="4" t="0" r="408" b="42020"/>
            <a:stretch/>
          </p:blipFill>
          <p:spPr>
            <a:xfrm>
              <a:off x="468360" y="1736640"/>
              <a:ext cx="8099280" cy="9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Prostokąt 4"/>
          <p:cNvSpPr/>
          <p:nvPr/>
        </p:nvSpPr>
        <p:spPr>
          <a:xfrm>
            <a:off x="555480" y="2852640"/>
            <a:ext cx="79614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 wniosku należy dołączyć załączniki zgodnie z wykazem oraz zakresem zadań zrealizowanych w ramach etapu/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lecane jest złożenie wniosku także w wersji elektronicznej (płyta CD) - należy zaznaczyć pole TAK, gdy wniosek składany jest również w wersji elektroniczne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nazwie każdego załącznika należy, przy pomocy listy rozwijalnej, wybrać odpowiednio TAK albo 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ybrania TAK należy wstawić liczbę załączników, jaka jest składana wraz z wnioski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zależności od rodzaju załącznika, do wniosku należy załączyć oryginał lub kopi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pie dokumentów, dołącza się w formie kopii potwierdzonych za zgodność z oryginałem przez pracownika LGD, samorządu województwa, lub podmiot, który wydał dokument, lub w formie kopii poświadczonych za zgodność z oryginałem przez notariusza lub przez występującego w sprawie pełnomocnika będącego radcą prawnym lub adwoka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ole tekstowe 2"/>
          <p:cNvSpPr/>
          <p:nvPr/>
        </p:nvSpPr>
        <p:spPr>
          <a:xfrm>
            <a:off x="539640" y="1736640"/>
            <a:ext cx="7899480" cy="62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33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"/>
          <p:cNvPicPr/>
          <p:nvPr/>
        </p:nvPicPr>
        <p:blipFill>
          <a:blip r:embed="rId3"/>
          <a:stretch/>
        </p:blipFill>
        <p:spPr>
          <a:xfrm>
            <a:off x="428760" y="1643040"/>
            <a:ext cx="8243640" cy="942840"/>
          </a:xfrm>
          <a:prstGeom prst="rect">
            <a:avLst/>
          </a:prstGeom>
          <a:ln w="0">
            <a:noFill/>
          </a:ln>
        </p:spPr>
      </p:pic>
      <p:sp>
        <p:nvSpPr>
          <p:cNvPr id="338" name="Prostokąt 1"/>
          <p:cNvSpPr/>
          <p:nvPr/>
        </p:nvSpPr>
        <p:spPr>
          <a:xfrm>
            <a:off x="1403280" y="3141720"/>
            <a:ext cx="524376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eneficjent  (LGD) dołącza do wniosku o płatność załącznik A.1 w przypadku, jeśli LGD złożyła wniosek o przyznanie pomocy na projekt grantowy na formularzu w wersji 2z, gdzie kryteria odnoszące się do Grantobiorców nie podlegały ocenie (nie stanowiły warunku przyznania pomocy). Jeśli natomiast LGD dołączyła do wniosku o przyznanie pomocy w wersji 2z karty oceny Grantobiorców (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załącznik B.3 Dokumenty potwierdzające przeprowadzenie oceny spełniania przez Grantobiorców  warunków, o których mowa w § 29 ust. 4 pkt 3 rozporządzenia 19.2 – oryginał lub kopi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łącznik VIII.A.1 należy sporządzić oddzielnie  dla każdego zadania, które Beneficjent (LGD) realizował w ramach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8010360" cy="2571840"/>
          </a:xfrm>
          <a:prstGeom prst="rect">
            <a:avLst/>
          </a:prstGeom>
          <a:ln w="0">
            <a:noFill/>
          </a:ln>
        </p:spPr>
      </p:pic>
      <p:sp>
        <p:nvSpPr>
          <p:cNvPr id="34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1"/>
          <p:cNvSpPr/>
          <p:nvPr/>
        </p:nvSpPr>
        <p:spPr>
          <a:xfrm>
            <a:off x="684360" y="4365720"/>
            <a:ext cx="1439640" cy="1295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Grantobiorcy przez ARiMR, natomiast jeśli nie posiada nie należy o niego występowa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Łącznik prosty ze strzałką 3"/>
          <p:cNvCxnSpPr/>
          <p:nvPr/>
        </p:nvCxnSpPr>
        <p:spPr>
          <a:xfrm flipV="1">
            <a:off x="1834920" y="2928960"/>
            <a:ext cx="10818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3" name="Prostokąt 4"/>
          <p:cNvSpPr/>
          <p:nvPr/>
        </p:nvSpPr>
        <p:spPr>
          <a:xfrm>
            <a:off x="2700360" y="4581360"/>
            <a:ext cx="18860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zadaniu danego grantobiorcy we wniosku z zestawienia rzeczowo-finansow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Łącznik prosty ze strzałką 6"/>
          <p:cNvCxnSpPr/>
          <p:nvPr/>
        </p:nvCxnSpPr>
        <p:spPr>
          <a:xfrm flipV="1">
            <a:off x="3780000" y="2997000"/>
            <a:ext cx="108000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5" name="Prostokąt 7"/>
          <p:cNvSpPr/>
          <p:nvPr/>
        </p:nvSpPr>
        <p:spPr>
          <a:xfrm>
            <a:off x="4873680" y="4581360"/>
            <a:ext cx="20876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ól 3.2 lub 3.3 należy wypełnić również pole 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Łącznik prosty ze strzałką 9"/>
          <p:cNvCxnSpPr/>
          <p:nvPr/>
        </p:nvCxnSpPr>
        <p:spPr>
          <a:xfrm flipH="1" flipV="1">
            <a:off x="5284080" y="4076280"/>
            <a:ext cx="2278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4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7772400" cy="2238120"/>
          </a:xfrm>
          <a:prstGeom prst="rect">
            <a:avLst/>
          </a:prstGeom>
          <a:ln w="0">
            <a:noFill/>
          </a:ln>
        </p:spPr>
      </p:pic>
      <p:sp>
        <p:nvSpPr>
          <p:cNvPr id="34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rostokąt 2"/>
          <p:cNvSpPr/>
          <p:nvPr/>
        </p:nvSpPr>
        <p:spPr>
          <a:xfrm>
            <a:off x="2124000" y="4292640"/>
            <a:ext cx="2160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 dotyczy osób fizycznych objętych rejestrem PESEL lub osób niebędących zarejestrowanymi podatnikami 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rostokąt 3"/>
          <p:cNvSpPr/>
          <p:nvPr/>
        </p:nvSpPr>
        <p:spPr>
          <a:xfrm>
            <a:off x="4586400" y="4292640"/>
            <a:ext cx="1728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PESEL Grantobiorcy będącego osobą fizyczn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Łącznik prosty ze strzałką 5"/>
          <p:cNvCxnSpPr/>
          <p:nvPr/>
        </p:nvCxnSpPr>
        <p:spPr>
          <a:xfrm flipV="1">
            <a:off x="3634920" y="3068280"/>
            <a:ext cx="136908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Łącznik prosty ze strzałką 7"/>
          <p:cNvCxnSpPr/>
          <p:nvPr/>
        </p:nvCxnSpPr>
        <p:spPr>
          <a:xfrm flipV="1">
            <a:off x="4787640" y="3499560"/>
            <a:ext cx="21636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82000" cy="1714320"/>
          </a:xfrm>
          <a:prstGeom prst="rect">
            <a:avLst/>
          </a:prstGeom>
          <a:ln w="0">
            <a:noFill/>
          </a:ln>
        </p:spPr>
      </p:pic>
      <p:sp>
        <p:nvSpPr>
          <p:cNvPr id="3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39160" cy="1199880"/>
          </a:xfrm>
          <a:prstGeom prst="rect">
            <a:avLst/>
          </a:prstGeom>
          <a:ln w="0">
            <a:noFill/>
          </a:ln>
        </p:spPr>
      </p:pic>
      <p:sp>
        <p:nvSpPr>
          <p:cNvPr id="3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rostokąt 1"/>
          <p:cNvSpPr/>
          <p:nvPr/>
        </p:nvSpPr>
        <p:spPr>
          <a:xfrm>
            <a:off x="1042920" y="3284640"/>
            <a:ext cx="1944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skazać poprzez wstawienie znaku 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Łącznik prosty ze strzałką 3"/>
          <p:cNvCxnSpPr/>
          <p:nvPr/>
        </p:nvCxnSpPr>
        <p:spPr>
          <a:xfrm flipV="1">
            <a:off x="2268000" y="1988280"/>
            <a:ext cx="86436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2" name="Prostokąt 4"/>
          <p:cNvSpPr/>
          <p:nvPr/>
        </p:nvSpPr>
        <p:spPr>
          <a:xfrm>
            <a:off x="4140360" y="3357720"/>
            <a:ext cx="2735280" cy="1150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ola 2.2 należy wypełnić pole 2.2.1 wpisując dane tej jednostki m.in. nazwę, adres siedziby lub wykonywania działalności, numery identyfikacyjne np. REGON (jeśli posiada)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Łącznik prosty ze strzałką 6"/>
          <p:cNvCxnSpPr/>
          <p:nvPr/>
        </p:nvCxnSpPr>
        <p:spPr>
          <a:xfrm flipV="1">
            <a:off x="5292720" y="2913840"/>
            <a:ext cx="72000" cy="44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6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72640" cy="2743200"/>
          </a:xfrm>
          <a:prstGeom prst="rect">
            <a:avLst/>
          </a:prstGeom>
          <a:ln w="0">
            <a:noFill/>
          </a:ln>
        </p:spPr>
      </p:pic>
      <p:sp>
        <p:nvSpPr>
          <p:cNvPr id="3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rostokąt 1"/>
          <p:cNvSpPr/>
          <p:nvPr/>
        </p:nvSpPr>
        <p:spPr>
          <a:xfrm>
            <a:off x="755640" y="4581360"/>
            <a:ext cx="3260880" cy="1151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informację o wszystkich projektach grantowych  danej LGD, w których danemu Grantobiorcy zostały powierzone/udzielone granty. W odniesieniu do wymienionych umów należy wpisać kwotę grantu przyznaną w ramach danej um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Łącznik prosty ze strzałką 3"/>
          <p:cNvCxnSpPr/>
          <p:nvPr/>
        </p:nvCxnSpPr>
        <p:spPr>
          <a:xfrm flipV="1">
            <a:off x="2171880" y="3212280"/>
            <a:ext cx="73440" cy="13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9" name="Prostokąt 4"/>
          <p:cNvSpPr/>
          <p:nvPr/>
        </p:nvSpPr>
        <p:spPr>
          <a:xfrm>
            <a:off x="4514760" y="4724280"/>
            <a:ext cx="136836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na rzecz Grantobior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rostokąt 5"/>
          <p:cNvSpPr/>
          <p:nvPr/>
        </p:nvSpPr>
        <p:spPr>
          <a:xfrm>
            <a:off x="6465960" y="4653000"/>
            <a:ext cx="115236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Grantobiorcy na rzecz jego jednostki organizacyjne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Łącznik prosty ze strzałką 8"/>
          <p:cNvCxnSpPr/>
          <p:nvPr/>
        </p:nvCxnSpPr>
        <p:spPr>
          <a:xfrm flipV="1">
            <a:off x="5292720" y="3330720"/>
            <a:ext cx="591120" cy="135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Łącznik prosty ze strzałką 10"/>
          <p:cNvCxnSpPr/>
          <p:nvPr/>
        </p:nvCxnSpPr>
        <p:spPr>
          <a:xfrm flipV="1">
            <a:off x="7164000" y="3330000"/>
            <a:ext cx="886680" cy="132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7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7791120" cy="2067120"/>
          </a:xfrm>
          <a:prstGeom prst="rect">
            <a:avLst/>
          </a:prstGeom>
          <a:ln w="0">
            <a:noFill/>
          </a:ln>
        </p:spPr>
      </p:pic>
      <p:sp>
        <p:nvSpPr>
          <p:cNvPr id="3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1"/>
          <p:cNvSpPr/>
          <p:nvPr/>
        </p:nvSpPr>
        <p:spPr>
          <a:xfrm>
            <a:off x="1476360" y="3860640"/>
            <a:ext cx="4464000" cy="1152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dołączyć kopie karty oceny dotyczącą wyboru danego Grantobiorcy, obejmującą punkty kontrolne w zakresie warunków określonych w ww. przepisach rozporządzenia, które LGD zobowiązana była uwzględnić w karcie i oceni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8" descr=""/>
          <p:cNvPicPr/>
          <p:nvPr/>
        </p:nvPicPr>
        <p:blipFill>
          <a:blip r:embed="rId1"/>
          <a:srcRect l="1094" t="0" r="404" b="11585"/>
          <a:stretch/>
        </p:blipFill>
        <p:spPr>
          <a:xfrm>
            <a:off x="501480" y="1714680"/>
            <a:ext cx="8170920" cy="396720"/>
          </a:xfrm>
          <a:prstGeom prst="rect">
            <a:avLst/>
          </a:prstGeom>
          <a:ln w="0">
            <a:noFill/>
          </a:ln>
        </p:spPr>
      </p:pic>
      <p:sp>
        <p:nvSpPr>
          <p:cNvPr id="382" name="Prostokąt 1"/>
          <p:cNvSpPr/>
          <p:nvPr/>
        </p:nvSpPr>
        <p:spPr>
          <a:xfrm>
            <a:off x="1135080" y="2492280"/>
            <a:ext cx="6904080" cy="28306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nowią dokument o równoważnej wartości dowodowej do faktur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dołączyć kopie wszystkich zawartych umów o powierzenie grantu (wraz z ewentualnymi aneksami) dotyczących zadań rozliczanych w ramach danego etap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yginał umowy o powierzenie grantu Beneficjent opatruje adnotacją „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Przedstawiono do refundacji w ramach PROW na lata 2014-2020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”,a następnie je kseruje a ich kopie są potwierdzone za zgodność z oryginał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yginały umów, opatrzone powyższą adnotacją pozostają u Beneficjenta i mogą podlegać kontroli na miejscu/kontroli na zlecenie podczas oceny wniosku o płatność albo kontroli w zakresie wypełnienia zobowiązań umownych po wypłacie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szelkie zmiany w zawartych umowach o powierzenie grantu powinny być dokonywane po uprzedniej akceptacji UM w zakresie zmian planowanych do wprowadzenia w danym grancie. Dokonywanie zmian bez wcześniejszej akceptacji UM może prowadzić do odmowy refundacji poniesionych kosztów a nawet wypowiedzenia umowy o przyznaniu pomocy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rostokąt 1"/>
          <p:cNvSpPr/>
          <p:nvPr/>
        </p:nvSpPr>
        <p:spPr>
          <a:xfrm>
            <a:off x="843120" y="3086280"/>
            <a:ext cx="7221240" cy="2433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owodem zapłaty bezgotówkowej może być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ciąg bankowy, lub inny dokument bankowy potwierdzający dokonanie płatności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przelewów dokonanych przez bank Beneficjenta zawierające wartości i daty dokonania poszczególnych przelewów, tytuł, odbiorcę oraz stempel banku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cenie przelewu potwierdzone przez ban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druku z systemu e-bankowoś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rzedstawione dowody zapłaty powinny umożliwiać identyfikację umowy o powierzenie grantu (lub dokumentu o równoważnej wartości dowodowej), której wpłata dotyczy oraz ustalenie wysokości i dat dokonania poszczególnych wpł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657000"/>
          </a:xfrm>
          <a:prstGeom prst="rect">
            <a:avLst/>
          </a:prstGeom>
          <a:ln w="0">
            <a:noFill/>
          </a:ln>
        </p:spPr>
      </p:pic>
      <p:sp>
        <p:nvSpPr>
          <p:cNvPr id="389" name="Prostokąt 2"/>
          <p:cNvSpPr/>
          <p:nvPr/>
        </p:nvSpPr>
        <p:spPr>
          <a:xfrm>
            <a:off x="249300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OSÓB WYPEŁNIANIA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2"/>
          <p:cNvSpPr/>
          <p:nvPr/>
        </p:nvSpPr>
        <p:spPr>
          <a:xfrm>
            <a:off x="395280" y="1969920"/>
            <a:ext cx="804384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aleca się, aby wniosek był wypełniony elektronicznie, wydrukowany i podpisany przez Beneficjenta, a następnie zapisany na nośniku CD i dostarczony do UM wraz z wnioskiem w wersji papierowej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la każdego etapu realizacji operacji należy złożyć oddzielny wnios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-      w przypadku operacji dwuetapowych (wniosek o płatność pośrednią/wniosek o płatność    końcową)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operacji jednoetapowych (wniosek o płatność końcową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sytuacji, kiedy dane pole we wniosku nie dotyczy Beneficjenta – w pole tekstowe należy wstawić kreskę, a w przypadku danych liczbowych należy wstawić wartość „0,00”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ane finansowe podane we wniosku oraz zestawieniu rzeczowo-finansowym z realizacji operacji wyrażone są w złotych z dokładnością do dwóch miejsc po przecinku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kowaną kwotę pomocy, należy podać w pełnych złotych po zaokrągleniu w dół do pełnych złotych(po odrzuceniu groszy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ole tekstowe 2"/>
          <p:cNvSpPr/>
          <p:nvPr/>
        </p:nvSpPr>
        <p:spPr>
          <a:xfrm>
            <a:off x="517680" y="2166840"/>
            <a:ext cx="78991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rcRect l="26" t="-1853" r="1116" b="5560"/>
          <a:stretch/>
        </p:blipFill>
        <p:spPr>
          <a:xfrm>
            <a:off x="468360" y="1698480"/>
            <a:ext cx="7964280" cy="468360"/>
          </a:xfrm>
          <a:prstGeom prst="rect">
            <a:avLst/>
          </a:prstGeom>
          <a:ln w="0">
            <a:noFill/>
          </a:ln>
        </p:spPr>
      </p:pic>
      <p:sp>
        <p:nvSpPr>
          <p:cNvPr id="393" name="Prostokąt 1"/>
          <p:cNvSpPr/>
          <p:nvPr/>
        </p:nvSpPr>
        <p:spPr>
          <a:xfrm>
            <a:off x="1116000" y="2997360"/>
            <a:ext cx="6915240" cy="12348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części załącznika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y, których kopie posiada Beneficjent, a do uzyskania których, zgodnie z przepisami prawa, zobligowany był Grantobiorca w związku z realizacją grantu w ramach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Beneficjent powinien wpisać, m.in. te dokumenty, których kopie powinien pozyskać od Grantobiorcy, i na podstawie których stwierdził prawidłową realizację zadania przez Grantobiorc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395" name="Prostokąt 2"/>
          <p:cNvSpPr/>
          <p:nvPr/>
        </p:nvSpPr>
        <p:spPr>
          <a:xfrm>
            <a:off x="256464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058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rostokąt 2"/>
          <p:cNvSpPr/>
          <p:nvPr/>
        </p:nvSpPr>
        <p:spPr>
          <a:xfrm>
            <a:off x="923760" y="2781360"/>
            <a:ext cx="732492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ałącznik wymagany, gdy Beneficjentowi zostało wypłacone wyprzedzające finansowan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łączany jest do wniosku w celu sprawdzenia, czy wyprzedzające finansowanie wykorzystane zostało zgodnie z przeznaczeniem oraz ustalenia wysokości odsetek naliczonych przez bank od kwoty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ażda transakcja na wyciągi powinna być przez Beneficjenta opisana w zakresie danego Grantobiorcy i w ramach zadania, którego została zrealizowana (w tym celu można posłużyć się np. wskazanym opisem poszczególnych zadań w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rzeczowo-finansowe z realizacji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móg dotyczący prowadzenia „wyodrębnionej rachunkowości” będzie jednym z elementów kontroli na miejs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181720" cy="496800"/>
          </a:xfrm>
          <a:prstGeom prst="rect">
            <a:avLst/>
          </a:prstGeom>
          <a:ln w="0">
            <a:noFill/>
          </a:ln>
        </p:spPr>
      </p:pic>
      <p:sp>
        <p:nvSpPr>
          <p:cNvPr id="402" name="Prostokąt 1"/>
          <p:cNvSpPr/>
          <p:nvPr/>
        </p:nvSpPr>
        <p:spPr>
          <a:xfrm>
            <a:off x="26359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ole tekstowe 2"/>
          <p:cNvSpPr/>
          <p:nvPr/>
        </p:nvSpPr>
        <p:spPr>
          <a:xfrm>
            <a:off x="612720" y="163980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rostokąt 1"/>
          <p:cNvSpPr/>
          <p:nvPr/>
        </p:nvSpPr>
        <p:spPr>
          <a:xfrm>
            <a:off x="563400" y="3645000"/>
            <a:ext cx="7945560" cy="1022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 potwierdzający numer rachunku bankowego Beneficjenta lub cesjonariusza, na który mają być przekazane środki finansowe składany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końcową – w przypadku, gdy operacja jest realizowana w jedny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pośrednią – w przypadku, gdy operacja jest realizowana w dwóch etap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"/>
          <p:cNvPicPr/>
          <p:nvPr/>
        </p:nvPicPr>
        <p:blipFill>
          <a:blip r:embed="rId2"/>
          <a:stretch/>
        </p:blipFill>
        <p:spPr>
          <a:xfrm>
            <a:off x="428760" y="1700280"/>
            <a:ext cx="8215200" cy="1500120"/>
          </a:xfrm>
          <a:prstGeom prst="rect">
            <a:avLst/>
          </a:prstGeom>
          <a:ln w="0">
            <a:noFill/>
          </a:ln>
        </p:spPr>
      </p:pic>
      <p:sp>
        <p:nvSpPr>
          <p:cNvPr id="408" name="Prostokąt 2"/>
          <p:cNvSpPr/>
          <p:nvPr/>
        </p:nvSpPr>
        <p:spPr>
          <a:xfrm>
            <a:off x="27367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rostokąt 1"/>
          <p:cNvSpPr/>
          <p:nvPr/>
        </p:nvSpPr>
        <p:spPr>
          <a:xfrm>
            <a:off x="611280" y="3284640"/>
            <a:ext cx="7827840" cy="136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składane jest wraz z wyciągami z polityki rachunkowości i zakładowego planu kont ora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wydrukami z kont księgowych w ramach prowadzonych ksiąg rachunkowych dla wszystkich transakcji związanyc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realizacją operacji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może, zamiast wyciągu z polityki rachunkowości załączyć całą „politykę rachunkowości” wra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uchwałą w sprawie jej przyjęcia (w przypadku załączenia całej polityki rachunkowości, nie ma konieczności dostarczania wyciągu</a:t>
            </a:r>
            <a:r>
              <a:rPr b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polityki rachunkowości i zakładowego planu kont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34280" cy="1438200"/>
          </a:xfrm>
          <a:prstGeom prst="rect">
            <a:avLst/>
          </a:prstGeom>
          <a:ln w="0">
            <a:noFill/>
          </a:ln>
        </p:spPr>
      </p:pic>
      <p:cxnSp>
        <p:nvCxnSpPr>
          <p:cNvPr id="414" name="Łącznik prosty ze strzałką 10"/>
          <p:cNvCxnSpPr/>
          <p:nvPr/>
        </p:nvCxnSpPr>
        <p:spPr>
          <a:xfrm flipV="1">
            <a:off x="5286240" y="2857320"/>
            <a:ext cx="2865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5" name="Prostokąt 2"/>
          <p:cNvSpPr/>
          <p:nvPr/>
        </p:nvSpPr>
        <p:spPr>
          <a:xfrm>
            <a:off x="277236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rostokąt 2"/>
          <p:cNvSpPr/>
          <p:nvPr/>
        </p:nvSpPr>
        <p:spPr>
          <a:xfrm>
            <a:off x="2269800" y="9079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ZAŁĄCZNIKI DO WNIOSKU O PŁAT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642960" y="411120"/>
            <a:ext cx="77868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ole tekstowe 2"/>
          <p:cNvSpPr/>
          <p:nvPr/>
        </p:nvSpPr>
        <p:spPr>
          <a:xfrm>
            <a:off x="684360" y="501480"/>
            <a:ext cx="77547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rostokąt 1"/>
          <p:cNvSpPr/>
          <p:nvPr/>
        </p:nvSpPr>
        <p:spPr>
          <a:xfrm>
            <a:off x="1822320" y="3213000"/>
            <a:ext cx="5257800" cy="1944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kładana wraz z wnioskiem przez Beneficjenta, który zawarł umowę cesji wierzytelności, na podstawie, której przenosi swoją wierzytelność wobec dłużnika na osobę trzecią. Integralną częścią tego załącznika powinno być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dłużnika przelanej wierzytelności.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eśli ww. oświadczenie nie stanowi integralnej części umowy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jest zobowiązany dołączyć jego kopię do wniosku. Jednocześnie, gdy taka umowa została zawarta między Beneficjentem, a cesjonariuszem, wówczas Beneficjent zobowiązany jest w zaświadczeniu z banku lub spółdzielczej kasy oszczędnościowo-kredytowej wskazać danego cesjonariusz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Łącznik prosty ze strzałką 3"/>
          <p:cNvCxnSpPr/>
          <p:nvPr/>
        </p:nvCxnSpPr>
        <p:spPr>
          <a:xfrm flipV="1">
            <a:off x="3348000" y="2117520"/>
            <a:ext cx="720000" cy="10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2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352080"/>
          </a:xfrm>
          <a:prstGeom prst="rect">
            <a:avLst/>
          </a:prstGeom>
          <a:ln w="0">
            <a:noFill/>
          </a:ln>
        </p:spPr>
      </p:pic>
      <p:sp>
        <p:nvSpPr>
          <p:cNvPr id="424" name="Prostokąt 2"/>
          <p:cNvSpPr/>
          <p:nvPr/>
        </p:nvSpPr>
        <p:spPr>
          <a:xfrm>
            <a:off x="2743920" y="855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ole tekstowe 2"/>
          <p:cNvSpPr/>
          <p:nvPr/>
        </p:nvSpPr>
        <p:spPr>
          <a:xfrm>
            <a:off x="714240" y="164304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rostokąt 1"/>
          <p:cNvSpPr/>
          <p:nvPr/>
        </p:nvSpPr>
        <p:spPr>
          <a:xfrm>
            <a:off x="4317840" y="3500280"/>
            <a:ext cx="374364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dołącza inne załączniki do wniosku w związku z realizacją operacji, jeśli był obowiązany do uzyskania dodatkowych, nie wymienionych powyżej, dokumentów, dokumenty te należy wymienić w niniejszej sekcji wnios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rostokąt 14"/>
          <p:cNvSpPr/>
          <p:nvPr/>
        </p:nvSpPr>
        <p:spPr>
          <a:xfrm>
            <a:off x="900000" y="3798720"/>
            <a:ext cx="2592360" cy="648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2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sumę załączonych do wniosku załącznik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431" name="Łącznik prosty ze strzałką 12"/>
          <p:cNvCxnSpPr/>
          <p:nvPr/>
        </p:nvCxnSpPr>
        <p:spPr>
          <a:xfrm flipH="1" flipV="1">
            <a:off x="4500000" y="1856880"/>
            <a:ext cx="12862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2" name="Łącznik prosty ze strzałką 17"/>
          <p:cNvCxnSpPr/>
          <p:nvPr/>
        </p:nvCxnSpPr>
        <p:spPr>
          <a:xfrm flipV="1">
            <a:off x="2356200" y="2856960"/>
            <a:ext cx="429480" cy="92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3" name="Prostokąt 2"/>
          <p:cNvSpPr/>
          <p:nvPr/>
        </p:nvSpPr>
        <p:spPr>
          <a:xfrm>
            <a:off x="279468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435" name="pole tekstowe 3"/>
          <p:cNvSpPr/>
          <p:nvPr/>
        </p:nvSpPr>
        <p:spPr>
          <a:xfrm>
            <a:off x="2706480" y="98100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X. OŚWIADCZENIA BENEFICJENTA(LG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ole tekstowe 2"/>
          <p:cNvSpPr/>
          <p:nvPr/>
        </p:nvSpPr>
        <p:spPr>
          <a:xfrm>
            <a:off x="519120" y="1773360"/>
            <a:ext cx="79707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wraz z wymaganymi załącznikami należy złożyć bezpośrednio w UM albo kurierem lub przesyłką rejestrowaną nadaną w placówce pocztowej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należy złożyć w terminie określonym w umowie o przyznaniu pomocy zawartej pomiędzy Beneficjentem a Samorządem Województwa lub w terminie wynikającym z ostatnio zawartego do niej aneksu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 terminowości złożenia wniosku decyduje data jego złożenia lub wpływu do UM. Termin złożenia wniosku uważa się za zachowany, jeśli data pieczęci UM – wpływu (potwierdzająca złożenie wniosku także w przypadku formy innej niż bezpośrednia) nie jest późniejsza niż termin określony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niezłożenia wniosku w terminie określonym w umowie, UM dwukrotnie wzywa Beneficjenta do złożenia wniosku w kolejnych wyznaczonych terminach, o ile nie upłynęło dwa lata od dnia zawarcia umowy lub nie upłynął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M może uwzględnić wniosek złożony po terminie określonym w umowie lub po terminie wynikającym z drugiego wezwania, o ile nie zostanie wypowiedziana umowa i nie upłyną 2 lata od dnia zawarcia umowy lub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0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"/>
          <p:cNvGrpSpPr/>
          <p:nvPr/>
        </p:nvGrpSpPr>
        <p:grpSpPr>
          <a:xfrm>
            <a:off x="534960" y="3206880"/>
            <a:ext cx="7489800" cy="936360"/>
            <a:chOff x="534960" y="3206880"/>
            <a:chExt cx="7489800" cy="936360"/>
          </a:xfrm>
        </p:grpSpPr>
        <p:sp>
          <p:nvSpPr>
            <p:cNvPr id="155" name="Prostokąt 1"/>
            <p:cNvSpPr/>
            <p:nvPr/>
          </p:nvSpPr>
          <p:spPr>
            <a:xfrm>
              <a:off x="534960" y="32068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rostokąt 2"/>
            <p:cNvSpPr/>
            <p:nvPr/>
          </p:nvSpPr>
          <p:spPr>
            <a:xfrm>
              <a:off x="534960" y="377352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158" name="Prostokąt 1"/>
          <p:cNvSpPr/>
          <p:nvPr/>
        </p:nvSpPr>
        <p:spPr>
          <a:xfrm>
            <a:off x="468360" y="1700280"/>
            <a:ext cx="8064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w dowolnym momencie po złożeniu wniosku o płatność, może zwrócić się </a:t>
            </a:r>
            <a:br>
              <a:rPr sz="1300"/>
            </a:b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pisemną prośbą o wycofanie wniosku w całości lub w części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zobowiązany jest do niezwłocznego informowania UM o planowanych albo zaistniałych zdarzeniach związanych ze zmianą sytuacji faktycznej lub prawnej, mogących mieć wpływ na realizację operacji zgodnie z postanowieniami umowy, wypłatę pomocy lub spełnienie wymagań określonych w PROW 2014-2020 i aktach prawnych wymienionych w § 1 umowy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, gdy Beneficjent zamierza np. zmienić zawarte umowy o powierzenie grantu, powinien przed dokonaniem jakichkolwiek zmian poinformować UM i uzyskać akceptację 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468360" y="1969920"/>
            <a:ext cx="79707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wniosek o płatność zawiera braki, UM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wezwania nie usunął (uzupełnił) braków w wyznaczonym terminie, UM ponownie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ponownego wezwania nie usunął braków w wyznaczonym terminie, UM rozpatruje wniosek w zakresie w jakim został wypełniony oraz na podstawie dołączonych i poprawnie sporządzonych dokumentów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trakcie rozpatrywania wniosku UM może wzywać Beneficjenta na piśmie, do wyjaśnienia faktów istotnych dla rozstrzygnięcia sprawy lub przedstawienia dowodów na potwierdzenie tych faktów, które należy dostarczyć w terminie 14 dni od dnia doręczenia wezwania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przesłania uzupełnień, wyjaśnień lub poprawnych dokumentów przesyłką rejestrowaną nadaną w placówce operatora wyznaczonego, o terminowości ich złożenia decyduje data stempla pocztowego, a w przypadku ich dostarczenia w innej formie, o terminowości ich złożenia decyduje data wpływu do U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2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trakcie rozpatrywania wniosku mogą zostać przeprowadzone wizyty/kontrole na miejscu/kontrole na zlecenie, w celu zweryfikowania informacji zawartych we wniosku i dołączonych do niego dokumentach ze stanem faktycznym lub uzyskania dodatkowych wyjaśnień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ypłaty środków finansowych z tytułu pomocy dokonuje się niezwłocznie po pozytywnym rozpatrzeniu wniosku o płatność, lecz nie później niż w terminie 3 miesięcy od dnia jego złożenia. Wezwanie podmiotu do usunięcia braków/wyjaśnień do wniosku wstrzymuje bieg terminu przeznaczony na jego rozpatrzeni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</a:rPr>
              <a:t>Środki finansowe z tytułu pomocy wypłaca się na warunkach określonych w umowie, a w szczególności jeżeli Beneficjent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operację lub jej etap, w tym poniósł związane z tym koszty kwalifikowalne, zgodnie z warunkami określonymi w rozporządzeni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lub realizuje zobowiązania określone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okonał płatności z tytułu udzielonych grantów nie później niż do dnia złożenia wniosku o płatność lub usunięcia braków w tym wniosku dokonanego w wyniku otrzymania ponownego wezwania do ich usunięci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dokumentował zrealizowanie operacji lub jej etapu, w tym poniesienie kosztów kwalifikowalnych z tym związan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łożył wniosek o płatność końcową, w terminie określonym w umowie, ale nie później niż dwa lata od dnia zawarcia umowy lub nie później do dnia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STRONA TYTUŁ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601560" y="2276640"/>
            <a:ext cx="7971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74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rostokąt 3"/>
          <p:cNvSpPr/>
          <p:nvPr/>
        </p:nvSpPr>
        <p:spPr>
          <a:xfrm>
            <a:off x="1763640" y="4581360"/>
            <a:ext cx="563904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Pola wypełniane przez pracownika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łożenie wniosku o płatność potwierdza się na kopii pierwszej strony wniosk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twierdzenie zawiera datę złożenia, jest opatrzone pieczęcią UM oraz podpisane przez osobę przyjmującą wnios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"/>
          <p:cNvPicPr/>
          <p:nvPr/>
        </p:nvPicPr>
        <p:blipFill>
          <a:blip r:embed="rId1"/>
          <a:stretch/>
        </p:blipFill>
        <p:spPr>
          <a:xfrm>
            <a:off x="488880" y="1700280"/>
            <a:ext cx="7920000" cy="2584440"/>
          </a:xfrm>
          <a:prstGeom prst="rect">
            <a:avLst/>
          </a:prstGeom>
          <a:ln w="0">
            <a:noFill/>
          </a:ln>
        </p:spPr>
      </p:pic>
      <p:cxnSp>
        <p:nvCxnSpPr>
          <p:cNvPr id="178" name="Łącznik prosty ze strzałką 4"/>
          <p:cNvCxnSpPr/>
          <p:nvPr/>
        </p:nvCxnSpPr>
        <p:spPr>
          <a:xfrm flipH="1" flipV="1">
            <a:off x="2628720" y="3644640"/>
            <a:ext cx="1296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Łącznik prosty ze strzałką 10"/>
          <p:cNvCxnSpPr/>
          <p:nvPr/>
        </p:nvCxnSpPr>
        <p:spPr>
          <a:xfrm flipV="1">
            <a:off x="5508720" y="3485520"/>
            <a:ext cx="504000" cy="1167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rolina Warych</cp:lastModifiedBy>
  <cp:lastPrinted>2013-10-21T07:28:16Z</cp:lastPrinted>
  <dcterms:modified xsi:type="dcterms:W3CDTF">2017-12-11T11:40:05Z</dcterms:modified>
  <cp:revision>1132</cp:revision>
  <dc:subject/>
  <dc:title>Slajd 1</dc:title>
</cp:coreProperties>
</file>