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CD3E-6CDB-4CBF-898F-1DF9641236CC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ww.prow.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w@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l. 42 663 36 30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x 42 663 36 32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90-051 Łódź, al. Piłsudskiego 12, II pięt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10T11:39:31Z</dcterms:modified>
  <cp:revision>674</cp:revision>
  <dc:subject/>
  <dc:title>Slajd 1</dc:title>
</cp:coreProperties>
</file>